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9288-A95B-4BE7-A77E-E70EA8D507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45A9-6332-4443-A27A-BE71130C3E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6D54-8D55-4695-99C3-E72AA357B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5946-99BB-4331-A754-DB4E0B67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E57C-AF57-414B-9E3E-11D52ED1C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29A2-E8FA-40B5-A281-86FC0F404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200B-4A6A-45EA-81FC-0E8642BD2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0420-00D3-46E7-955E-CEE8CE80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24D7-FAFD-4CEC-A6F9-0EB7C831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7917-3806-4F76-A8BA-DD5C6686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D2D2-ACAB-4484-8DB9-09EFF9A7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F8517-56CB-4ED5-ABB9-3390C0E5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9BC2-7386-4510-861D-63CC7C4A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5C02-D745-456C-A148-1B82484C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89C0-EA89-42DE-BCE8-F6134AC2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D3AE9-D78F-4DAF-B9F6-04AC0F3E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3A89-C28E-40CC-AB68-9A1F6032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CF3B-DE20-4A39-ACEA-7FE35D838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5D1F-EB9D-4E91-BE5A-6F4AD7FCD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4649-35D5-429F-91C6-A0A0A28D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B32D-E565-4882-BE07-1839A780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4F9A-999D-4A00-936F-912B6924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31F4-E5FF-4BF2-B02F-60959D82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81E4-5149-4B58-8087-43CC65F3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307E-14D9-41FB-B779-DA56FFB0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18D2-1868-461F-913D-B843AA86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3DAB-9938-43D4-BB51-33622A561042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Автор: Никитина Н.Б. МОУ лицей 15 г.Ставроп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BEEB-96E7-4526-9E59-AEF4DB5093B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6067-A3CE-4FA7-A335-C86EE68455DA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Автор: Никитина Н.Б. МОУ лицей 15 г.Ставроп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C144-7001-448D-A38E-0B3C63E4296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216720" cy="6858000"/>
            <a:chOff x="0" y="0"/>
            <a:chExt cx="9216720" cy="6858000"/>
          </a:xfrm>
        </p:grpSpPr>
        <p:sp>
          <p:nvSpPr>
            <p:cNvPr id="103" name="Line 3"/>
            <p:cNvSpPr/>
            <p:nvPr/>
          </p:nvSpPr>
          <p:spPr>
            <a:xfrm>
              <a:off x="36360" y="693720"/>
              <a:ext cx="9144000" cy="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4"/>
            <p:cNvSpPr/>
            <p:nvPr/>
          </p:nvSpPr>
          <p:spPr>
            <a:xfrm>
              <a:off x="36360" y="1197000"/>
              <a:ext cx="9144000" cy="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5"/>
            <p:cNvSpPr/>
            <p:nvPr/>
          </p:nvSpPr>
          <p:spPr>
            <a:xfrm>
              <a:off x="36360" y="2131920"/>
              <a:ext cx="9144000" cy="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6"/>
            <p:cNvSpPr/>
            <p:nvPr/>
          </p:nvSpPr>
          <p:spPr>
            <a:xfrm>
              <a:off x="36360" y="2708280"/>
              <a:ext cx="9144000" cy="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7"/>
            <p:cNvSpPr/>
            <p:nvPr/>
          </p:nvSpPr>
          <p:spPr>
            <a:xfrm>
              <a:off x="36360" y="3718080"/>
              <a:ext cx="9144000" cy="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8"/>
            <p:cNvSpPr/>
            <p:nvPr/>
          </p:nvSpPr>
          <p:spPr>
            <a:xfrm>
              <a:off x="72720" y="4292640"/>
              <a:ext cx="9144000" cy="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9"/>
            <p:cNvSpPr/>
            <p:nvPr/>
          </p:nvSpPr>
          <p:spPr>
            <a:xfrm flipH="1">
              <a:off x="36000" y="0"/>
              <a:ext cx="2771640" cy="400536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0"/>
            <p:cNvSpPr/>
            <p:nvPr/>
          </p:nvSpPr>
          <p:spPr>
            <a:xfrm flipH="1">
              <a:off x="1439640" y="0"/>
              <a:ext cx="4464000" cy="685800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1"/>
            <p:cNvSpPr/>
            <p:nvPr/>
          </p:nvSpPr>
          <p:spPr>
            <a:xfrm flipH="1">
              <a:off x="4679280" y="0"/>
              <a:ext cx="4249800" cy="685800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2"/>
            <p:cNvSpPr/>
            <p:nvPr/>
          </p:nvSpPr>
          <p:spPr>
            <a:xfrm flipH="1">
              <a:off x="7487640" y="3860640"/>
              <a:ext cx="1692360" cy="299736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3"/>
            <p:cNvSpPr/>
            <p:nvPr/>
          </p:nvSpPr>
          <p:spPr>
            <a:xfrm>
              <a:off x="34920" y="5302080"/>
              <a:ext cx="9144000" cy="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4"/>
            <p:cNvSpPr/>
            <p:nvPr/>
          </p:nvSpPr>
          <p:spPr>
            <a:xfrm>
              <a:off x="0" y="5877000"/>
              <a:ext cx="9144000" cy="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Picture 16" descr="BRD270"/>
          <p:cNvPicPr/>
          <p:nvPr/>
        </p:nvPicPr>
        <p:blipFill>
          <a:blip r:embed="rId1"/>
          <a:stretch/>
        </p:blipFill>
        <p:spPr>
          <a:xfrm>
            <a:off x="1332000" y="476280"/>
            <a:ext cx="5735520" cy="63817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7"/>
          <p:cNvSpPr/>
          <p:nvPr/>
        </p:nvSpPr>
        <p:spPr>
          <a:xfrm rot="20511600">
            <a:off x="2697120" y="895320"/>
            <a:ext cx="313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звенел для нас звон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чинается  у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столе у нас в поря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учки, книжки и тетра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ещаем не ленить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болтать, не веселить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Arial"/>
                <a:ea typeface="Arial"/>
              </a:rPr>
              <a:t>Отгадайте загадку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Маленький мальчишка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в сером армячишке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По дворам шныряет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крохи собирает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dd9"/>
                </a:solidFill>
                <a:latin typeface="Constantia"/>
              </a:rPr>
              <a:t>                              </a:t>
            </a:r>
            <a:r>
              <a:rPr b="0" lang="ru-RU" sz="4000" spc="-1" strike="noStrike">
                <a:solidFill>
                  <a:srgbClr val="009dd9"/>
                </a:solidFill>
                <a:latin typeface="Constantia"/>
              </a:rPr>
              <a:t>в</a:t>
            </a:r>
            <a:r>
              <a:rPr b="0" lang="ru-RU" sz="4000" spc="-1" strike="noStrike">
                <a:solidFill>
                  <a:srgbClr val="ff0000"/>
                </a:solidFill>
                <a:latin typeface="Constantia"/>
              </a:rPr>
              <a:t>о</a:t>
            </a:r>
            <a:r>
              <a:rPr b="0" lang="ru-RU" sz="4000" spc="-1" strike="noStrike">
                <a:solidFill>
                  <a:srgbClr val="009dd9"/>
                </a:solidFill>
                <a:latin typeface="Constantia"/>
              </a:rPr>
              <a:t>р</a:t>
            </a:r>
            <a:r>
              <a:rPr b="0" lang="ru-RU" sz="4000" spc="-1" strike="noStrike">
                <a:solidFill>
                  <a:srgbClr val="ff0000"/>
                </a:solidFill>
                <a:latin typeface="Constantia"/>
              </a:rPr>
              <a:t>о</a:t>
            </a:r>
            <a:r>
              <a:rPr b="0" lang="ru-RU" sz="4000" spc="-1" strike="noStrike">
                <a:solidFill>
                  <a:srgbClr val="009dd9"/>
                </a:solidFill>
                <a:latin typeface="Constantia"/>
              </a:rPr>
              <a:t>бе</a:t>
            </a:r>
            <a:r>
              <a:rPr b="0" lang="ru-RU" sz="4000" spc="-1" strike="noStrike">
                <a:solidFill>
                  <a:srgbClr val="009dd9"/>
                </a:solidFill>
                <a:latin typeface="Constantia"/>
                <a:ea typeface="Arial"/>
              </a:rPr>
              <a:t>́</a:t>
            </a:r>
            <a:r>
              <a:rPr b="0" lang="ru-RU" sz="4000" spc="-1" strike="noStrike">
                <a:solidFill>
                  <a:srgbClr val="009dd9"/>
                </a:solidFill>
                <a:latin typeface="Constantia"/>
              </a:rPr>
              <a:t>й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132000" y="26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99440" y="163800"/>
            <a:ext cx="89589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Воробьи питаются насекомыми, растени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и их плодами. Такие птицы называются</a:t>
            </a:r>
            <a:r>
              <a:rPr b="1" i="1" lang="ru-RU" sz="2400" spc="-1" strike="noStrike">
                <a:solidFill>
                  <a:srgbClr val="009dd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dd9"/>
                </a:solidFill>
                <a:latin typeface="Arial"/>
              </a:rPr>
              <a:t>                        </a:t>
            </a:r>
            <a:r>
              <a:rPr b="1" i="1" lang="ru-RU" sz="2800" spc="-1" strike="noStrike" u="sng">
                <a:solidFill>
                  <a:srgbClr val="9900cc"/>
                </a:solidFill>
                <a:uFillTx/>
                <a:latin typeface="Arial"/>
              </a:rPr>
              <a:t>НАСЕКОМО-РАСТИТЕЛЬНОЯДНЫЕ</a:t>
            </a:r>
            <a:r>
              <a:rPr b="1" i="1" lang="ru-RU" sz="2400" spc="-1" strike="noStrike">
                <a:solidFill>
                  <a:srgbClr val="9900cc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7b889978ea95"/>
          <p:cNvPicPr/>
          <p:nvPr/>
        </p:nvPicPr>
        <p:blipFill>
          <a:blip r:embed="rId1"/>
          <a:stretch/>
        </p:blipFill>
        <p:spPr>
          <a:xfrm>
            <a:off x="285840" y="4071960"/>
            <a:ext cx="2376360" cy="2333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ba1972bfc9be"/>
          <p:cNvPicPr/>
          <p:nvPr/>
        </p:nvPicPr>
        <p:blipFill>
          <a:blip r:embed="rId2"/>
          <a:stretch/>
        </p:blipFill>
        <p:spPr>
          <a:xfrm>
            <a:off x="214200" y="1857240"/>
            <a:ext cx="1758960" cy="2030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f70723f905bf"/>
          <p:cNvPicPr/>
          <p:nvPr/>
        </p:nvPicPr>
        <p:blipFill>
          <a:blip r:embed="rId3"/>
          <a:stretch/>
        </p:blipFill>
        <p:spPr>
          <a:xfrm>
            <a:off x="2143080" y="2000160"/>
            <a:ext cx="2122560" cy="2379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babochka91"/>
          <p:cNvPicPr/>
          <p:nvPr/>
        </p:nvPicPr>
        <p:blipFill>
          <a:blip r:embed="rId4"/>
          <a:stretch/>
        </p:blipFill>
        <p:spPr>
          <a:xfrm rot="2956800">
            <a:off x="4874040" y="2244960"/>
            <a:ext cx="1800360" cy="868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c5eb"/>
          <p:cNvPicPr/>
          <p:nvPr/>
        </p:nvPicPr>
        <p:blipFill>
          <a:blip r:embed="rId5"/>
          <a:stretch/>
        </p:blipFill>
        <p:spPr>
          <a:xfrm>
            <a:off x="2571840" y="4286160"/>
            <a:ext cx="2519280" cy="2362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jagod60"/>
          <p:cNvPicPr/>
          <p:nvPr/>
        </p:nvPicPr>
        <p:blipFill>
          <a:blip r:embed="rId6"/>
          <a:stretch/>
        </p:blipFill>
        <p:spPr>
          <a:xfrm>
            <a:off x="5486400" y="4521240"/>
            <a:ext cx="3657600" cy="2336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DCEFE5F"/>
          <p:cNvPicPr/>
          <p:nvPr/>
        </p:nvPicPr>
        <p:blipFill>
          <a:blip r:embed="rId7"/>
          <a:srcRect l="0" t="47487" r="61888" b="0"/>
          <a:stretch/>
        </p:blipFill>
        <p:spPr>
          <a:xfrm>
            <a:off x="5000760" y="33577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воробей"/>
          <p:cNvPicPr/>
          <p:nvPr/>
        </p:nvPicPr>
        <p:blipFill>
          <a:blip r:embed="rId8"/>
          <a:stretch/>
        </p:blipFill>
        <p:spPr>
          <a:xfrm>
            <a:off x="5286240" y="3143160"/>
            <a:ext cx="2876760" cy="2590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4400"/>
            </a:b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Письмо строчной буквы й.</a:t>
            </a:r>
            <a:br>
              <a:rPr sz="4400"/>
            </a:b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НАТЬ: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лгоритм написания буквы, её соединение с другими буква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ление слов на слог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авила перенос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МЕТЬ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авильно писать строчную букву, соединения, слов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авильно списывать слова и предложения, написанные печатным и рукописным шрифт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DCEFE5F"/>
          <p:cNvPicPr/>
          <p:nvPr/>
        </p:nvPicPr>
        <p:blipFill>
          <a:blip r:embed="rId1"/>
          <a:srcRect l="0" t="47484" r="61890" b="0"/>
          <a:stretch/>
        </p:blipFill>
        <p:spPr>
          <a:xfrm>
            <a:off x="809640" y="642960"/>
            <a:ext cx="3155760" cy="2787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3B01A7D9"/>
          <p:cNvPicPr/>
          <p:nvPr/>
        </p:nvPicPr>
        <p:blipFill>
          <a:blip r:embed="rId2"/>
          <a:srcRect l="43007" t="46421" r="14940" b="557"/>
          <a:stretch/>
        </p:blipFill>
        <p:spPr>
          <a:xfrm>
            <a:off x="539640" y="3645000"/>
            <a:ext cx="3240360" cy="2879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i"/>
          <p:cNvPicPr/>
          <p:nvPr/>
        </p:nvPicPr>
        <p:blipFill>
          <a:blip r:embed="rId3"/>
          <a:stretch/>
        </p:blipFill>
        <p:spPr>
          <a:xfrm>
            <a:off x="4643280" y="2143080"/>
            <a:ext cx="4143600" cy="3654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Line 2"/>
          <p:cNvSpPr/>
          <p:nvPr/>
        </p:nvSpPr>
        <p:spPr>
          <a:xfrm>
            <a:off x="1979640" y="5589720"/>
            <a:ext cx="716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5"/>
          <p:cNvSpPr/>
          <p:nvPr/>
        </p:nvSpPr>
        <p:spPr>
          <a:xfrm>
            <a:off x="2050920" y="4437000"/>
            <a:ext cx="7093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"/>
          <p:cNvSpPr/>
          <p:nvPr/>
        </p:nvSpPr>
        <p:spPr>
          <a:xfrm>
            <a:off x="1908000" y="5589720"/>
            <a:ext cx="723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7"/>
          <p:cNvSpPr/>
          <p:nvPr/>
        </p:nvSpPr>
        <p:spPr>
          <a:xfrm>
            <a:off x="2124000" y="3429000"/>
            <a:ext cx="70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rc 9"/>
          <p:cNvSpPr/>
          <p:nvPr/>
        </p:nvSpPr>
        <p:spPr>
          <a:xfrm flipH="1" rot="12964200">
            <a:off x="6278040" y="2699280"/>
            <a:ext cx="420840" cy="387000"/>
          </a:xfrm>
          <a:custGeom>
            <a:avLst/>
            <a:gdLst>
              <a:gd name="textAreaLeft" fmla="*/ -360 w 420840"/>
              <a:gd name="textAreaRight" fmla="*/ 420840 w 420840"/>
              <a:gd name="textAreaTop" fmla="*/ 0 h 387000"/>
              <a:gd name="textAreaBottom" fmla="*/ 387360 h 387000"/>
            </a:gdLst>
            <a:ahLst/>
            <a:rect l="textAreaLeft" t="textAreaTop" r="textAreaRight" b="textAreaBottom"/>
            <a:pathLst>
              <a:path fill="none" w="26111" h="21600">
                <a:moveTo>
                  <a:pt x="0" y="500"/>
                </a:moveTo>
                <a:cubicBezTo>
                  <a:pt x="1518" y="167"/>
                  <a:pt x="3068" y="-1"/>
                  <a:pt x="4623" y="0"/>
                </a:cubicBezTo>
                <a:cubicBezTo>
                  <a:pt x="15702" y="0"/>
                  <a:pt x="24985" y="8382"/>
                  <a:pt x="26111" y="19404"/>
                </a:cubicBezTo>
              </a:path>
              <a:path stroke="0" w="26111" h="21600">
                <a:moveTo>
                  <a:pt x="0" y="500"/>
                </a:moveTo>
                <a:cubicBezTo>
                  <a:pt x="1518" y="167"/>
                  <a:pt x="3068" y="-1"/>
                  <a:pt x="4623" y="0"/>
                </a:cubicBezTo>
                <a:cubicBezTo>
                  <a:pt x="15702" y="0"/>
                  <a:pt x="24985" y="8382"/>
                  <a:pt x="26111" y="19404"/>
                </a:cubicBezTo>
                <a:lnTo>
                  <a:pt x="4623" y="21600"/>
                </a:lnTo>
                <a:close/>
              </a:path>
            </a:pathLst>
          </a:custGeom>
          <a:noFill/>
          <a:ln w="108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0"/>
          <p:cNvSpPr/>
          <p:nvPr/>
        </p:nvSpPr>
        <p:spPr>
          <a:xfrm>
            <a:off x="6084720" y="2781360"/>
            <a:ext cx="216000" cy="216000"/>
          </a:xfrm>
          <a:prstGeom prst="flowChartConnector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1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2"/>
          <p:cNvSpPr/>
          <p:nvPr/>
        </p:nvSpPr>
        <p:spPr>
          <a:xfrm flipV="1">
            <a:off x="6588000" y="3429000"/>
            <a:ext cx="432000" cy="1008000"/>
          </a:xfrm>
          <a:prstGeom prst="line">
            <a:avLst/>
          </a:prstGeom>
          <a:ln w="127080">
            <a:solidFill>
              <a:srgbClr val="85d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3"/>
          <p:cNvSpPr/>
          <p:nvPr/>
        </p:nvSpPr>
        <p:spPr>
          <a:xfrm rot="1937400">
            <a:off x="6372000" y="465300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4"/>
          <p:cNvSpPr/>
          <p:nvPr/>
        </p:nvSpPr>
        <p:spPr>
          <a:xfrm rot="1937400">
            <a:off x="5076360" y="465300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 flipV="1" rot="12019800">
            <a:off x="6166800" y="4582440"/>
            <a:ext cx="1152360" cy="7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6"/>
          <p:cNvSpPr/>
          <p:nvPr/>
        </p:nvSpPr>
        <p:spPr>
          <a:xfrm flipV="1" rot="12019800">
            <a:off x="4862160" y="4593240"/>
            <a:ext cx="1152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7"/>
          <p:cNvSpPr/>
          <p:nvPr/>
        </p:nvSpPr>
        <p:spPr>
          <a:xfrm flipH="1">
            <a:off x="6732720" y="4437000"/>
            <a:ext cx="107928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8"/>
          <p:cNvSpPr/>
          <p:nvPr/>
        </p:nvSpPr>
        <p:spPr>
          <a:xfrm flipH="1">
            <a:off x="5003280" y="3429000"/>
            <a:ext cx="792360" cy="1871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9"/>
          <p:cNvSpPr/>
          <p:nvPr/>
        </p:nvSpPr>
        <p:spPr>
          <a:xfrm flipH="1">
            <a:off x="6300360" y="3429000"/>
            <a:ext cx="792360" cy="1871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0"/>
          <p:cNvSpPr/>
          <p:nvPr/>
        </p:nvSpPr>
        <p:spPr>
          <a:xfrm flipH="1">
            <a:off x="5562360" y="4419720"/>
            <a:ext cx="1066680" cy="93636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21"/>
          <p:cNvSpPr/>
          <p:nvPr/>
        </p:nvSpPr>
        <p:spPr>
          <a:xfrm>
            <a:off x="5651640" y="3357720"/>
            <a:ext cx="215640" cy="215640"/>
          </a:xfrm>
          <a:prstGeom prst="flowChartConnector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5"/>
          <p:cNvSpPr/>
          <p:nvPr/>
        </p:nvSpPr>
        <p:spPr>
          <a:xfrm flipV="1" rot="12019800">
            <a:off x="3124080" y="4647600"/>
            <a:ext cx="1152720" cy="7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2"/>
          <p:cNvSpPr/>
          <p:nvPr/>
        </p:nvSpPr>
        <p:spPr>
          <a:xfrm flipV="1">
            <a:off x="2484360" y="456840"/>
            <a:ext cx="6659640" cy="1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1" descr="karanda16"/>
          <p:cNvPicPr/>
          <p:nvPr/>
        </p:nvPicPr>
        <p:blipFill>
          <a:blip r:embed="rId1"/>
          <a:stretch/>
        </p:blipFill>
        <p:spPr>
          <a:xfrm flipH="1" rot="18426600">
            <a:off x="-483840" y="2333160"/>
            <a:ext cx="5329440" cy="8589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9514 -0.12119 E">
                                      <p:cBhvr>
                                        <p:cTn id="65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514 -0.12119 C -0.30556 -0.09159 -0.3158 -0.06175 -0.32518 -0.03169 C -0.33455 -0.00162 -0.34306 0.03237 -0.35122 0.05966 C -0.35938 0.08695 -0.37084 0.11401 -0.37448 0.13251 C -0.37813 0.15101 -0.37552 0.16211 -0.37309 0.1709 C -0.37066 0.17969 -0.3658 0.18223 -0.35938 0.18547 C -0.35295 0.18871 -0.34618 0.19588 -0.33473 0.19102 C -0.32327 0.18617 -0.30417 0.16975 -0.29098 0.15633 C -0.27778 0.14292 -0.26754 0.12974 -0.25539 0.11054 C -0.24323 0.09135 -0.22934 0.06475 -0.21841 0.04139 C -0.20747 0.01804 -0.19809 -0.00555 -0.18959 -0.02984 C -0.18108 -0.05412 -0.17275 -0.09043 -0.16771 -0.10477 C -0.16268 -0.11911 -0.15886 -0.11864 -0.15938 -0.11564 C -0.1599 -0.11263 -0.16545 -0.10292 -0.17049 -0.0865 C -0.17552 -0.07008 -0.17986 -0.04533 -0.18959 -0.01712 C -0.19931 0.0111 -0.21927 0.05504 -0.22934 0.08325 C -0.23941 0.11147 -0.24775 0.13529 -0.24983 0.15263 C -0.25191 0.16998 -0.24549 0.18154 -0.24167 0.18732 C -0.23785 0.1931 -0.23264 0.18917 -0.22657 0.18732 C -0.22049 0.18547 -0.21111 0.18085 -0.20469 0.17645 C -0.19827 0.17206 -0.19479 0.1672 -0.1882 0.16165 C -0.1816 0.1561 -0.17014 0.14731 -0.16493 0.14338 C -0.15973 0.13945 -0.15834 0.13876 -0.15677 0.13806 E">
                                      <p:cBhvr>
                                        <p:cTn id="69" dur="5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677 0.13806 C -0.15677 0.13876 -0.20643 -0.03909 -0.25573 -0.21554 E">
                                      <p:cBhvr>
                                        <p:cTn id="72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573 -0.21554 C -0.25156 -0.20999 -0.2474 -0.20421 -0.24063 -0.20098 C -0.23386 -0.19774 -0.22327 -0.19381 -0.21459 -0.19566 C -0.20591 -0.19751 -0.19722 -0.20491 -0.18854 -0.21208 E">
                                      <p:cBhvr>
                                        <p:cTn id="75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F:\Буква й\Картинки\3.jpg"/>
          <p:cNvPicPr/>
          <p:nvPr/>
        </p:nvPicPr>
        <p:blipFill>
          <a:blip r:embed="rId1"/>
          <a:stretch/>
        </p:blipFill>
        <p:spPr>
          <a:xfrm>
            <a:off x="1692360" y="803160"/>
            <a:ext cx="5451480" cy="6054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7"/>
          <p:cNvSpPr txBox="1"/>
          <p:nvPr/>
        </p:nvSpPr>
        <p:spPr>
          <a:xfrm>
            <a:off x="468360" y="2060640"/>
            <a:ext cx="293220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Я</a:t>
            </a:r>
            <a:endParaRPr b="0" lang="en-US" sz="1800" spc="1" strike="noStrike">
              <a:ln w="0">
                <a:noFill/>
              </a:ln>
              <a:solidFill>
                <a:srgbClr val="cc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8" name="WordArt 8"/>
          <p:cNvSpPr txBox="1"/>
          <p:nvPr/>
        </p:nvSpPr>
        <p:spPr>
          <a:xfrm>
            <a:off x="5076720" y="1268280"/>
            <a:ext cx="30956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знал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9" name="WordArt 9"/>
          <p:cNvSpPr txBox="1"/>
          <p:nvPr/>
        </p:nvSpPr>
        <p:spPr>
          <a:xfrm>
            <a:off x="5148360" y="2492280"/>
            <a:ext cx="345600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помнил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WordArt 10"/>
          <p:cNvSpPr txBox="1"/>
          <p:nvPr/>
        </p:nvSpPr>
        <p:spPr>
          <a:xfrm>
            <a:off x="5219640" y="3789360"/>
            <a:ext cx="338472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училс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1" name="WordArt 11"/>
          <p:cNvSpPr txBox="1"/>
          <p:nvPr/>
        </p:nvSpPr>
        <p:spPr>
          <a:xfrm>
            <a:off x="5364000" y="5013360"/>
            <a:ext cx="30956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дивилс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2" name="Line 13"/>
          <p:cNvSpPr/>
          <p:nvPr/>
        </p:nvSpPr>
        <p:spPr>
          <a:xfrm flipV="1">
            <a:off x="3419640" y="2133360"/>
            <a:ext cx="1512720" cy="165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4"/>
          <p:cNvSpPr/>
          <p:nvPr/>
        </p:nvSpPr>
        <p:spPr>
          <a:xfrm flipV="1">
            <a:off x="3419640" y="3068640"/>
            <a:ext cx="158400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5"/>
          <p:cNvSpPr/>
          <p:nvPr/>
        </p:nvSpPr>
        <p:spPr>
          <a:xfrm>
            <a:off x="3419640" y="4005360"/>
            <a:ext cx="158400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6"/>
          <p:cNvSpPr/>
          <p:nvPr/>
        </p:nvSpPr>
        <p:spPr>
          <a:xfrm>
            <a:off x="3419640" y="4076640"/>
            <a:ext cx="1728720" cy="136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20:05:36Z</dcterms:created>
  <dc:creator>Серёга</dc:creator>
  <dc:description/>
  <dc:language>en-US</dc:language>
  <cp:lastModifiedBy>светик</cp:lastModifiedBy>
  <dcterms:modified xsi:type="dcterms:W3CDTF">2011-01-16T08:47:38Z</dcterms:modified>
  <cp:revision>115</cp:revision>
  <dc:subject/>
  <dc:title>По страницам  Красной книги.</dc:title>
</cp:coreProperties>
</file>