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61C0-E001-4062-9679-6BEABB9FFD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0C45-DDA4-46F2-B33B-635091ADD3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A83-406B-404F-AB67-B6C839CF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CED-F76B-4A07-A00F-F0F97D1B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478-3246-45D1-B103-157F5CFF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7BB-019F-4A3C-A7DD-43A0A5BE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FEA1-56A3-4B9C-A279-B50253DF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CE6D-7808-40CE-B5CF-2DC4002D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DD8D-271E-4FBD-8DEE-7EFB0DD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E172-1599-4CAB-9C5B-C9D465B0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3D4D-CBC1-40BB-9127-8F12F603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A7EC-74F0-48CE-AFF7-9B6C3A64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D0B5-EF43-4942-A53D-71F13CF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FB2-0589-41C0-92A8-8BC09141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9423-44DC-41C6-B0EB-177DC51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F642-E1B7-4A85-B3FF-1247C8E6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48BD-54B8-4FFC-8A51-C7E0AED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4726-D5CE-4E02-9CF6-A638508B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FF3F-57AA-4CBF-BC20-71C8D301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BB82-717F-4823-BAA4-9CAC1510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3F4-661D-44DB-9CAC-B99506C0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62F-87AA-4F56-AA2D-453E4AFD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B84-1416-46E9-AD61-C11A93A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2ED-52B9-4F5F-9DFC-9177915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2F4-3404-4227-BBC7-DB418E9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480-0153-4479-8AEC-3FE424B8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60C-4440-4428-A89C-43C014E8213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Автор: Никитина Н.Б. МОУ лицей 15 г.Ставроп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860B-BC85-4257-BCE7-FD3C2F6D1DD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FD1B-584A-48DC-88BD-580F0C6C51E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Автор: Никитина Н.Б. МОУ лицей 15 г.Ставроп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2096-7288-4156-A81C-289C3F289C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216720" cy="6858000"/>
            <a:chOff x="0" y="0"/>
            <a:chExt cx="9216720" cy="6858000"/>
          </a:xfrm>
        </p:grpSpPr>
        <p:sp>
          <p:nvSpPr>
            <p:cNvPr id="103" name="Line 3"/>
            <p:cNvSpPr/>
            <p:nvPr/>
          </p:nvSpPr>
          <p:spPr>
            <a:xfrm>
              <a:off x="36360" y="69372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"/>
            <p:cNvSpPr/>
            <p:nvPr/>
          </p:nvSpPr>
          <p:spPr>
            <a:xfrm>
              <a:off x="36360" y="119700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>
              <a:off x="36360" y="213192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>
              <a:off x="36360" y="270828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>
              <a:off x="36360" y="371808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72720" y="429264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 flipH="1">
              <a:off x="36000" y="0"/>
              <a:ext cx="2771640" cy="4005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 flipH="1">
              <a:off x="1439640" y="0"/>
              <a:ext cx="4464000" cy="68580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 flipH="1">
              <a:off x="4679280" y="0"/>
              <a:ext cx="4249800" cy="68580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 flipH="1">
              <a:off x="7487640" y="3860640"/>
              <a:ext cx="1692360" cy="2997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3"/>
            <p:cNvSpPr/>
            <p:nvPr/>
          </p:nvSpPr>
          <p:spPr>
            <a:xfrm>
              <a:off x="34920" y="530208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0" y="587700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16" descr="BRD270"/>
          <p:cNvPicPr/>
          <p:nvPr/>
        </p:nvPicPr>
        <p:blipFill>
          <a:blip r:embed="rId1"/>
          <a:stretch/>
        </p:blipFill>
        <p:spPr>
          <a:xfrm>
            <a:off x="1332000" y="476280"/>
            <a:ext cx="5735520" cy="6381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7"/>
          <p:cNvSpPr/>
          <p:nvPr/>
        </p:nvSpPr>
        <p:spPr>
          <a:xfrm rot="20511600">
            <a:off x="2697120" y="895320"/>
            <a:ext cx="31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звенел для нас зво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чинается 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столе у нас в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чки, книжки и тетр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ещаем не лен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болтать, не весел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Отгадайте загад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Маленький мальчишк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 сером армячиш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По дворам шныряет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крохи собирае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                              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в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о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р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о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бе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  <a:ea typeface="Arial"/>
              </a:rPr>
              <a:t>́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13200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99440" y="163800"/>
            <a:ext cx="8958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оробьи питаются насекомыми, раст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и их плодами. Такие птицы называются</a:t>
            </a:r>
            <a:r>
              <a:rPr b="1" i="1" lang="ru-RU" sz="2400" spc="-1" strike="noStrike">
                <a:solidFill>
                  <a:srgbClr val="009dd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Arial"/>
              </a:rPr>
              <a:t>                       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НАСЕКОМО-РАСТИТЕЛЬНОЯДНЫЕ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7b889978ea95"/>
          <p:cNvPicPr/>
          <p:nvPr/>
        </p:nvPicPr>
        <p:blipFill>
          <a:blip r:embed="rId1"/>
          <a:stretch/>
        </p:blipFill>
        <p:spPr>
          <a:xfrm>
            <a:off x="285840" y="4071960"/>
            <a:ext cx="2376360" cy="23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ba1972bfc9be"/>
          <p:cNvPicPr/>
          <p:nvPr/>
        </p:nvPicPr>
        <p:blipFill>
          <a:blip r:embed="rId2"/>
          <a:stretch/>
        </p:blipFill>
        <p:spPr>
          <a:xfrm>
            <a:off x="214200" y="1857240"/>
            <a:ext cx="1758960" cy="2030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70723f905bf"/>
          <p:cNvPicPr/>
          <p:nvPr/>
        </p:nvPicPr>
        <p:blipFill>
          <a:blip r:embed="rId3"/>
          <a:stretch/>
        </p:blipFill>
        <p:spPr>
          <a:xfrm>
            <a:off x="2143080" y="2000160"/>
            <a:ext cx="2122560" cy="237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babochka91"/>
          <p:cNvPicPr/>
          <p:nvPr/>
        </p:nvPicPr>
        <p:blipFill>
          <a:blip r:embed="rId4"/>
          <a:stretch/>
        </p:blipFill>
        <p:spPr>
          <a:xfrm rot="2956800">
            <a:off x="4874040" y="2244960"/>
            <a:ext cx="1800360" cy="86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5eb"/>
          <p:cNvPicPr/>
          <p:nvPr/>
        </p:nvPicPr>
        <p:blipFill>
          <a:blip r:embed="rId5"/>
          <a:stretch/>
        </p:blipFill>
        <p:spPr>
          <a:xfrm>
            <a:off x="2571840" y="4286160"/>
            <a:ext cx="251928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agod60"/>
          <p:cNvPicPr/>
          <p:nvPr/>
        </p:nvPicPr>
        <p:blipFill>
          <a:blip r:embed="rId6"/>
          <a:stretch/>
        </p:blipFill>
        <p:spPr>
          <a:xfrm>
            <a:off x="5486400" y="4521240"/>
            <a:ext cx="3657600" cy="233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CEFE5F"/>
          <p:cNvPicPr/>
          <p:nvPr/>
        </p:nvPicPr>
        <p:blipFill>
          <a:blip r:embed="rId7"/>
          <a:srcRect l="0" t="47487" r="61888" b="0"/>
          <a:stretch/>
        </p:blipFill>
        <p:spPr>
          <a:xfrm>
            <a:off x="5000760" y="3357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воробей"/>
          <p:cNvPicPr/>
          <p:nvPr/>
        </p:nvPicPr>
        <p:blipFill>
          <a:blip r:embed="rId8"/>
          <a:stretch/>
        </p:blipFill>
        <p:spPr>
          <a:xfrm>
            <a:off x="5286240" y="3143160"/>
            <a:ext cx="2876760" cy="2590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Письмо строчной буквы й.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ТЬ: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горитм написания буквы, её соединение с другими бук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ление слов на слог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а перено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МЕТ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ьно писать строчную букву, соединения, сло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ьно списывать слова и предложения, написанные печатным и рукописным шриф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DCEFE5F"/>
          <p:cNvPicPr/>
          <p:nvPr/>
        </p:nvPicPr>
        <p:blipFill>
          <a:blip r:embed="rId1"/>
          <a:srcRect l="0" t="47484" r="61890" b="0"/>
          <a:stretch/>
        </p:blipFill>
        <p:spPr>
          <a:xfrm>
            <a:off x="809640" y="642960"/>
            <a:ext cx="3155760" cy="278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B01A7D9"/>
          <p:cNvPicPr/>
          <p:nvPr/>
        </p:nvPicPr>
        <p:blipFill>
          <a:blip r:embed="rId2"/>
          <a:srcRect l="43007" t="46421" r="14940" b="557"/>
          <a:stretch/>
        </p:blipFill>
        <p:spPr>
          <a:xfrm>
            <a:off x="539640" y="364500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i"/>
          <p:cNvPicPr/>
          <p:nvPr/>
        </p:nvPicPr>
        <p:blipFill>
          <a:blip r:embed="rId3"/>
          <a:stretch/>
        </p:blipFill>
        <p:spPr>
          <a:xfrm>
            <a:off x="4643280" y="2143080"/>
            <a:ext cx="4143600" cy="365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1979640" y="5589720"/>
            <a:ext cx="71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2050920" y="4437000"/>
            <a:ext cx="709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1908000" y="5589720"/>
            <a:ext cx="723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2124000" y="3429000"/>
            <a:ext cx="70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9"/>
          <p:cNvSpPr/>
          <p:nvPr/>
        </p:nvSpPr>
        <p:spPr>
          <a:xfrm flipH="1" rot="12964200">
            <a:off x="6278040" y="2699280"/>
            <a:ext cx="420840" cy="387000"/>
          </a:xfrm>
          <a:custGeom>
            <a:avLst/>
            <a:gdLst>
              <a:gd name="textAreaLeft" fmla="*/ -360 w 420840"/>
              <a:gd name="textAreaRight" fmla="*/ 420840 w 420840"/>
              <a:gd name="textAreaTop" fmla="*/ 0 h 387000"/>
              <a:gd name="textAreaBottom" fmla="*/ 387360 h 387000"/>
            </a:gdLst>
            <a:ahLst/>
            <a:rect l="textAreaLeft" t="textAreaTop" r="textAreaRight" b="textAreaBottom"/>
            <a:pathLst>
              <a:path fill="none" w="26111" h="21600">
                <a:moveTo>
                  <a:pt x="0" y="500"/>
                </a:moveTo>
                <a:cubicBezTo>
                  <a:pt x="1518" y="167"/>
                  <a:pt x="3068" y="-1"/>
                  <a:pt x="4623" y="0"/>
                </a:cubicBezTo>
                <a:cubicBezTo>
                  <a:pt x="15702" y="0"/>
                  <a:pt x="24985" y="8382"/>
                  <a:pt x="26111" y="19404"/>
                </a:cubicBezTo>
              </a:path>
              <a:path stroke="0" w="26111" h="21600">
                <a:moveTo>
                  <a:pt x="0" y="500"/>
                </a:moveTo>
                <a:cubicBezTo>
                  <a:pt x="1518" y="167"/>
                  <a:pt x="3068" y="-1"/>
                  <a:pt x="4623" y="0"/>
                </a:cubicBezTo>
                <a:cubicBezTo>
                  <a:pt x="15702" y="0"/>
                  <a:pt x="24985" y="8382"/>
                  <a:pt x="26111" y="19404"/>
                </a:cubicBezTo>
                <a:lnTo>
                  <a:pt x="4623" y="21600"/>
                </a:lnTo>
                <a:close/>
              </a:path>
            </a:pathLst>
          </a:custGeom>
          <a:noFill/>
          <a:ln w="108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6084720" y="2781360"/>
            <a:ext cx="216000" cy="216000"/>
          </a:xfrm>
          <a:prstGeom prst="flowChartConnector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 flipH="1">
            <a:off x="5562360" y="4419720"/>
            <a:ext cx="1066680" cy="936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1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2"/>
          <p:cNvSpPr/>
          <p:nvPr/>
        </p:nvSpPr>
        <p:spPr>
          <a:xfrm flipV="1">
            <a:off x="2484360" y="456840"/>
            <a:ext cx="6659640" cy="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1" descr="karanda16"/>
          <p:cNvPicPr/>
          <p:nvPr/>
        </p:nvPicPr>
        <p:blipFill>
          <a:blip r:embed="rId1"/>
          <a:stretch/>
        </p:blipFill>
        <p:spPr>
          <a:xfrm flipH="1" rot="18426600">
            <a:off x="-483840" y="2333160"/>
            <a:ext cx="5329440" cy="85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6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69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7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7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F:\Буква й\Картинки\3.jpg"/>
          <p:cNvPicPr/>
          <p:nvPr/>
        </p:nvPicPr>
        <p:blipFill>
          <a:blip r:embed="rId1"/>
          <a:stretch/>
        </p:blipFill>
        <p:spPr>
          <a:xfrm>
            <a:off x="1692360" y="803160"/>
            <a:ext cx="5451480" cy="605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7"/>
          <p:cNvSpPr txBox="1"/>
          <p:nvPr/>
        </p:nvSpPr>
        <p:spPr>
          <a:xfrm>
            <a:off x="468360" y="2060640"/>
            <a:ext cx="29322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8"/>
          <p:cNvSpPr txBox="1"/>
          <p:nvPr/>
        </p:nvSpPr>
        <p:spPr>
          <a:xfrm>
            <a:off x="5076720" y="126828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зн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5148360" y="2492280"/>
            <a:ext cx="3456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0"/>
          <p:cNvSpPr txBox="1"/>
          <p:nvPr/>
        </p:nvSpPr>
        <p:spPr>
          <a:xfrm>
            <a:off x="5219640" y="3789360"/>
            <a:ext cx="338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WordArt 11"/>
          <p:cNvSpPr txBox="1"/>
          <p:nvPr/>
        </p:nvSpPr>
        <p:spPr>
          <a:xfrm>
            <a:off x="5364000" y="501336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ив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3419640" y="2133360"/>
            <a:ext cx="151272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3419640" y="3068640"/>
            <a:ext cx="1584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3419640" y="4005360"/>
            <a:ext cx="158400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3419640" y="4076640"/>
            <a:ext cx="172872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20:05:36Z</dcterms:created>
  <dc:creator>Серёга</dc:creator>
  <dc:description/>
  <dc:language>en-US</dc:language>
  <cp:lastModifiedBy>светик</cp:lastModifiedBy>
  <dcterms:modified xsi:type="dcterms:W3CDTF">2011-01-16T08:47:38Z</dcterms:modified>
  <cp:revision>115</cp:revision>
  <dc:subject/>
  <dc:title>По страницам  Красной книги.</dc:title>
</cp:coreProperties>
</file>