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763-3448-4216-8190-5FE7ACFE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D7C-3795-4D51-936F-66D24C69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465-873C-4DCA-A47D-2F212042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DFE-93F2-4043-B288-6CD89C40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D77-0C87-4BCD-BE54-C04548C7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ED2-4D1F-46D2-B5E6-9B119ADE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8F8-76E4-443B-830B-3E2113BE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97B-F59D-42A6-BE5C-2C7DCC7F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074-04F7-4360-BBCB-ECEBCDC4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769-9F15-49F4-AAFD-944F8234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552-6CC3-462B-AD18-6506C832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8CD-7420-49B1-8D5B-F8A45A2D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8234-66C7-4CB3-AEA5-988C96335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8760" y="2071800"/>
            <a:ext cx="84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Цель  урока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знакомить учащихся с историей создания Содружества Независимых Государ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толерантное, гуманное отношение и уважение к национальным различиям, стремление к культурному взаимодейств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ширить представлени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ьников о Содружестве Независимых Государств, о символике каждого государ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143000" y="21420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Презентация для проведения «Урока Содружества  Независимых Государ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http://festival.1september.ru/articles/576439/img2.gif"/>
          <p:cNvPicPr/>
          <p:nvPr/>
        </p:nvPicPr>
        <p:blipFill>
          <a:blip r:embed="rId1"/>
          <a:stretch/>
        </p:blipFill>
        <p:spPr>
          <a:xfrm>
            <a:off x="1500120" y="3929040"/>
            <a:ext cx="6715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1143000" y="714240"/>
            <a:ext cx="7643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В настоящее время в состав СНГ входя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11 государст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57120" y="214200"/>
          <a:ext cx="8572680" cy="198144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ербайджанская 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67" name="Picture 13" descr=""/>
          <p:cNvPicPr/>
          <p:nvPr/>
        </p:nvPicPr>
        <p:blipFill>
          <a:blip r:embed="rId2"/>
          <a:stretch/>
        </p:blipFill>
        <p:spPr>
          <a:xfrm>
            <a:off x="428760" y="2500200"/>
            <a:ext cx="242892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3"/>
          <a:stretch/>
        </p:blipFill>
        <p:spPr>
          <a:xfrm>
            <a:off x="3643200" y="2214720"/>
            <a:ext cx="1905120" cy="207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4"/>
          <a:stretch/>
        </p:blipFill>
        <p:spPr>
          <a:xfrm>
            <a:off x="6429240" y="2357280"/>
            <a:ext cx="1714680" cy="2267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http://festival.1september.ru/articles/576439/img8.gif"/>
          <p:cNvPicPr/>
          <p:nvPr/>
        </p:nvPicPr>
        <p:blipFill>
          <a:blip r:embed="rId5"/>
          <a:stretch/>
        </p:blipFill>
        <p:spPr>
          <a:xfrm>
            <a:off x="285840" y="3984480"/>
            <a:ext cx="3254400" cy="287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6072120" y="4786200"/>
            <a:ext cx="264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льх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йда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Арм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рев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357120" y="2143080"/>
            <a:ext cx="2428920" cy="121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3929040" y="2143080"/>
            <a:ext cx="1905120" cy="183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6643800" y="2071800"/>
            <a:ext cx="1989000" cy="2214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6715080" y="4643280"/>
            <a:ext cx="221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ргся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Cер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зат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6" descr="http://festival.1september.ru/articles/576439/img13.gif"/>
          <p:cNvPicPr/>
          <p:nvPr/>
        </p:nvPicPr>
        <p:blipFill>
          <a:blip r:embed="rId5"/>
          <a:stretch/>
        </p:blipFill>
        <p:spPr>
          <a:xfrm>
            <a:off x="285840" y="3571920"/>
            <a:ext cx="29289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Белару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2714400" cy="1357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1905120" cy="1895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4"/>
          <a:stretch/>
        </p:blipFill>
        <p:spPr>
          <a:xfrm>
            <a:off x="6786720" y="2000160"/>
            <a:ext cx="179856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6643800" y="4429080"/>
            <a:ext cx="221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укашенко Александр Григор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7" descr="http://festival.1september.ru/articles/576439/img14.gif"/>
          <p:cNvPicPr/>
          <p:nvPr/>
        </p:nvPicPr>
        <p:blipFill>
          <a:blip r:embed="rId5"/>
          <a:srcRect l="25505" t="53575" r="14498" b="0"/>
          <a:stretch/>
        </p:blipFill>
        <p:spPr>
          <a:xfrm>
            <a:off x="214200" y="4071960"/>
            <a:ext cx="4048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Казах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т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57120" y="2071800"/>
            <a:ext cx="2714760" cy="135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3786120" y="2214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4"/>
          <a:stretch/>
        </p:blipFill>
        <p:spPr>
          <a:xfrm>
            <a:off x="6643800" y="1928880"/>
            <a:ext cx="1687320" cy="2428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http://festival.1september.ru/articles/576439/img6.gif"/>
          <p:cNvPicPr/>
          <p:nvPr/>
        </p:nvPicPr>
        <p:blipFill>
          <a:blip r:embed="rId5"/>
          <a:srcRect l="4498" t="43044" r="0" b="0"/>
          <a:stretch/>
        </p:blipFill>
        <p:spPr>
          <a:xfrm>
            <a:off x="214200" y="4214880"/>
            <a:ext cx="4548240" cy="242892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6500880" y="46432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урсултан Абишевич Назарб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ыргызская 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шк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95" name="Рисунок 12" descr="http://festival.1september.ru/articles/576439/img9.gif"/>
          <p:cNvPicPr/>
          <p:nvPr/>
        </p:nvPicPr>
        <p:blipFill>
          <a:blip r:embed="rId2"/>
          <a:srcRect l="12004" t="46777" r="998" b="6454"/>
          <a:stretch/>
        </p:blipFill>
        <p:spPr>
          <a:xfrm>
            <a:off x="214200" y="3857760"/>
            <a:ext cx="5143680" cy="25714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Флаг Кыргызской Республики"/>
          <p:cNvPicPr/>
          <p:nvPr/>
        </p:nvPicPr>
        <p:blipFill>
          <a:blip r:embed="rId3"/>
          <a:stretch/>
        </p:blipFill>
        <p:spPr>
          <a:xfrm>
            <a:off x="285840" y="2000160"/>
            <a:ext cx="2286000" cy="1500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Герб Кыргызской Республики"/>
          <p:cNvPicPr/>
          <p:nvPr/>
        </p:nvPicPr>
        <p:blipFill>
          <a:blip r:embed="rId4"/>
          <a:stretch/>
        </p:blipFill>
        <p:spPr>
          <a:xfrm>
            <a:off x="3786120" y="1857240"/>
            <a:ext cx="1900440" cy="190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5"/>
          <a:stretch/>
        </p:blipFill>
        <p:spPr>
          <a:xfrm>
            <a:off x="6143760" y="2000160"/>
            <a:ext cx="2409840" cy="171468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6143760" y="4357800"/>
            <a:ext cx="27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унба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Молд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шин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3643200" y="2000160"/>
            <a:ext cx="1905120" cy="234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285840" y="2000160"/>
            <a:ext cx="271440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4"/>
          <a:stretch/>
        </p:blipFill>
        <p:spPr>
          <a:xfrm>
            <a:off x="5929200" y="2286000"/>
            <a:ext cx="2664000" cy="1785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9" descr="http://festival.1september.ru/articles/576439/img16.gif"/>
          <p:cNvPicPr/>
          <p:nvPr/>
        </p:nvPicPr>
        <p:blipFill>
          <a:blip r:embed="rId5"/>
          <a:stretch/>
        </p:blipFill>
        <p:spPr>
          <a:xfrm>
            <a:off x="357120" y="3500280"/>
            <a:ext cx="2286000" cy="3319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5715000" y="4500720"/>
            <a:ext cx="3429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ха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мп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енно исполняющий обязанности президента Республики Молд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http://festival.1september.ru/articles/576439/img5.gif"/>
          <p:cNvPicPr/>
          <p:nvPr/>
        </p:nvPicPr>
        <p:blipFill>
          <a:blip r:embed="rId2"/>
          <a:srcRect l="19593" t="50904" r="16736" b="0"/>
          <a:stretch/>
        </p:blipFill>
        <p:spPr>
          <a:xfrm>
            <a:off x="214200" y="4214880"/>
            <a:ext cx="5000760" cy="25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57120" y="214200"/>
          <a:ext cx="8572680" cy="198144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йская Федер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тивная 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285840" y="2428920"/>
            <a:ext cx="2363760" cy="157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3786120" y="2428920"/>
            <a:ext cx="1905120" cy="2257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5"/>
          <a:stretch/>
        </p:blipFill>
        <p:spPr>
          <a:xfrm>
            <a:off x="6858000" y="2357280"/>
            <a:ext cx="180648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2"/>
          <p:cNvSpPr/>
          <p:nvPr/>
        </p:nvSpPr>
        <p:spPr>
          <a:xfrm>
            <a:off x="6643800" y="478620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мит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атоль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двед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Таджики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шан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16" name="Рисунок 20" descr="http://festival.1september.ru/articles/576439/img17.gif"/>
          <p:cNvPicPr/>
          <p:nvPr/>
        </p:nvPicPr>
        <p:blipFill>
          <a:blip r:embed="rId2"/>
          <a:srcRect l="14997" t="45212" r="2502" b="6103"/>
          <a:stretch/>
        </p:blipFill>
        <p:spPr>
          <a:xfrm>
            <a:off x="214200" y="4286160"/>
            <a:ext cx="449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285840" y="2214720"/>
            <a:ext cx="3000240" cy="1500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3857760" y="2214720"/>
            <a:ext cx="1904760" cy="1866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5"/>
          <a:stretch/>
        </p:blipFill>
        <p:spPr>
          <a:xfrm>
            <a:off x="6357960" y="2214720"/>
            <a:ext cx="2479680" cy="19285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8"/>
          <p:cNvSpPr/>
          <p:nvPr/>
        </p:nvSpPr>
        <p:spPr>
          <a:xfrm>
            <a:off x="6143760" y="457200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мом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арип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хм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Туркмени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шхаб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23" name="Рисунок 13" descr="http://festival.1september.ru/articles/576439/img10.gif"/>
          <p:cNvPicPr/>
          <p:nvPr/>
        </p:nvPicPr>
        <p:blipFill>
          <a:blip r:embed="rId2"/>
          <a:srcRect l="10159" t="49663" r="1580" b="4501"/>
          <a:stretch/>
        </p:blipFill>
        <p:spPr>
          <a:xfrm>
            <a:off x="285840" y="4143240"/>
            <a:ext cx="5429160" cy="22147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6072120" y="450072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рдымухамедов Гурбангулы Мяликгулыеви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6143760" y="2143080"/>
            <a:ext cx="2523960" cy="19288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Флаг Туркменистана (Туркмении)"/>
          <p:cNvPicPr/>
          <p:nvPr/>
        </p:nvPicPr>
        <p:blipFill>
          <a:blip r:embed="rId4"/>
          <a:stretch/>
        </p:blipFill>
        <p:spPr>
          <a:xfrm>
            <a:off x="285840" y="1928880"/>
            <a:ext cx="2428920" cy="15001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Герб Туркменистана (Туркмении)"/>
          <p:cNvPicPr/>
          <p:nvPr/>
        </p:nvPicPr>
        <p:blipFill>
          <a:blip r:embed="rId5"/>
          <a:stretch/>
        </p:blipFill>
        <p:spPr>
          <a:xfrm>
            <a:off x="3357720" y="2000160"/>
            <a:ext cx="19000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9" descr=""/>
          <p:cNvPicPr/>
          <p:nvPr/>
        </p:nvPicPr>
        <p:blipFill>
          <a:blip r:embed="rId2"/>
          <a:stretch/>
        </p:blipFill>
        <p:spPr>
          <a:xfrm>
            <a:off x="944640" y="1542960"/>
            <a:ext cx="726120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Узбеки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шк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285840" y="2071800"/>
            <a:ext cx="2857320" cy="1428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857760" y="1928880"/>
            <a:ext cx="1904760" cy="193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6572160" y="1857240"/>
            <a:ext cx="1785960" cy="26798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6429240" y="4572000"/>
            <a:ext cx="24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лам Абдуганиевич Карим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4" descr="http://festival.1september.ru/articles/576439/img11.gif"/>
          <p:cNvPicPr/>
          <p:nvPr/>
        </p:nvPicPr>
        <p:blipFill>
          <a:blip r:embed="rId5"/>
          <a:srcRect l="13501" t="35191" r="0" b="4507"/>
          <a:stretch/>
        </p:blipFill>
        <p:spPr>
          <a:xfrm>
            <a:off x="214200" y="3786120"/>
            <a:ext cx="4119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357120" y="214200"/>
          <a:ext cx="8572680" cy="1554120"/>
        </p:xfrm>
        <a:graphic>
          <a:graphicData uri="http://schemas.openxmlformats.org/drawingml/2006/table">
            <a:tbl>
              <a:tblPr/>
              <a:tblGrid>
                <a:gridCol w="4286160"/>
                <a:gridCol w="42865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е наз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 Укра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dce6f2"/>
                        </a:gs>
                        <a:gs pos="100000">
                          <a:srgbClr val="e6e6e6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137" name="Рисунок 21" descr="http://festival.1september.ru/articles/576439/img18.gif"/>
          <p:cNvPicPr/>
          <p:nvPr/>
        </p:nvPicPr>
        <p:blipFill>
          <a:blip r:embed="rId2"/>
          <a:srcRect l="16758" t="48252" r="0" b="2150"/>
          <a:stretch/>
        </p:blipFill>
        <p:spPr>
          <a:xfrm>
            <a:off x="214200" y="4214880"/>
            <a:ext cx="4475160" cy="20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357120" y="2143080"/>
            <a:ext cx="2470320" cy="164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3500280" y="2000160"/>
            <a:ext cx="1714680" cy="238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5"/>
          <a:stretch/>
        </p:blipFill>
        <p:spPr>
          <a:xfrm>
            <a:off x="6072120" y="2071800"/>
            <a:ext cx="2741760" cy="1928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8"/>
          <p:cNvSpPr/>
          <p:nvPr/>
        </p:nvSpPr>
        <p:spPr>
          <a:xfrm>
            <a:off x="6429240" y="4500720"/>
            <a:ext cx="24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ктор Фёдорович Янук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357120" y="0"/>
            <a:ext cx="8415360" cy="49291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0" y="4179960"/>
            <a:ext cx="9144000" cy="265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Verdana"/>
                <a:ea typeface="Verdana"/>
              </a:rPr>
              <a:t>Перестав быть единым целым, мы остались сосед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Verdana"/>
                <a:ea typeface="Verdana"/>
              </a:rPr>
              <a:t>И нас гораздо больше связывает, чем разъедин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Verdana"/>
                <a:ea typeface="Verdana"/>
              </a:rPr>
              <a:t>Единое правовое пространство позволяет лучше понять друг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9" descr=""/>
          <p:cNvPicPr/>
          <p:nvPr/>
        </p:nvPicPr>
        <p:blipFill>
          <a:blip r:embed="rId2"/>
          <a:stretch/>
        </p:blipFill>
        <p:spPr>
          <a:xfrm>
            <a:off x="-195120" y="152280"/>
            <a:ext cx="2212920" cy="315756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11" descr=""/>
          <p:cNvPicPr/>
          <p:nvPr/>
        </p:nvPicPr>
        <p:blipFill>
          <a:blip r:embed="rId3"/>
          <a:stretch/>
        </p:blipFill>
        <p:spPr>
          <a:xfrm>
            <a:off x="-189000" y="2077920"/>
            <a:ext cx="2335320" cy="3159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12" descr=""/>
          <p:cNvPicPr/>
          <p:nvPr/>
        </p:nvPicPr>
        <p:blipFill>
          <a:blip r:embed="rId4"/>
          <a:stretch/>
        </p:blipFill>
        <p:spPr>
          <a:xfrm>
            <a:off x="-42840" y="4151160"/>
            <a:ext cx="2090880" cy="31575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14" descr=""/>
          <p:cNvPicPr/>
          <p:nvPr/>
        </p:nvPicPr>
        <p:blipFill>
          <a:blip r:embed="rId5"/>
          <a:stretch/>
        </p:blipFill>
        <p:spPr>
          <a:xfrm>
            <a:off x="549360" y="152280"/>
            <a:ext cx="8832600" cy="315756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16" descr=""/>
          <p:cNvPicPr/>
          <p:nvPr/>
        </p:nvPicPr>
        <p:blipFill>
          <a:blip r:embed="rId6"/>
          <a:stretch/>
        </p:blipFill>
        <p:spPr>
          <a:xfrm>
            <a:off x="487440" y="2077920"/>
            <a:ext cx="9101160" cy="31593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7" descr=""/>
          <p:cNvPicPr/>
          <p:nvPr/>
        </p:nvPicPr>
        <p:blipFill>
          <a:blip r:embed="rId7"/>
          <a:stretch/>
        </p:blipFill>
        <p:spPr>
          <a:xfrm>
            <a:off x="549360" y="4151160"/>
            <a:ext cx="77468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357120" y="500040"/>
            <a:ext cx="85726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НГ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шифровываетс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одружество Независимы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Государст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разовано 8 декабря 1991 года в белорусской столице Минс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0"/>
            <a:ext cx="914400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начально в СНГ вош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Российская Советская Федеративная Социалистическая Республ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краи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Белорусс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днее к ним присоединились и другие союзные государ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зербайдж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рм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азахст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иргиз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Молдав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аджикист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ркм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збекист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руз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http://festival.1september.ru/articles/576439/img2.gif"/>
          <p:cNvPicPr/>
          <p:nvPr/>
        </p:nvPicPr>
        <p:blipFill>
          <a:blip r:embed="rId2"/>
          <a:stretch/>
        </p:blipFill>
        <p:spPr>
          <a:xfrm>
            <a:off x="428760" y="1500120"/>
            <a:ext cx="828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43040" y="1143000"/>
            <a:ext cx="614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НГ создавалось для сотрудничества между странами во многих областях: политики, экономики, культуры, науки и т.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rcRect l="1055" t="1638" r="2105" b="1478"/>
          <a:stretch/>
        </p:blipFill>
        <p:spPr>
          <a:xfrm>
            <a:off x="714240" y="1714680"/>
            <a:ext cx="7637760" cy="4897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1785960" y="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друж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зависи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осудар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857240" y="1785960"/>
            <a:ext cx="5667480" cy="2833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1285920" y="214200"/>
            <a:ext cx="6357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дружества Независимых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786040" y="2000160"/>
            <a:ext cx="3384720" cy="3214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1285920" y="214200"/>
            <a:ext cx="6357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дружества Независимых Государ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1-20T19:20:59Z</dcterms:modified>
  <cp:revision>31</cp:revision>
  <dc:subject/>
  <dc:title>Слайд 1</dc:title>
</cp:coreProperties>
</file>