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A4D-5700-4E2E-87D0-466C6BC2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483-A810-4468-A712-886DF65F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1AC-96D8-4821-A6E9-EBF37C06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3F9-5CB5-4767-9D6B-ECB223A2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B8C-ABBA-415C-983E-CC189BC5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58D-DD30-4172-B3CC-E4C81629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79C-8DFC-4FB0-9E07-633D12E2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4BA-5739-4C95-96E5-93D4B253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704-8804-4C6D-B92D-9A1B4391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F32-4158-4019-A520-E6C4C6CA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154-0BFB-4658-AE07-0D75FA64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4D9-601B-4561-8FCF-EF20ACD1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2D4F-E285-4DD6-AA54-B57316F8E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8760" y="207180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  урока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знакомить учащихся с историей создания Содружества Независимых Государ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толерантное, гуманное отношение и уважение к национальным различиям, стремление к культурному взаимодейст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ить представлени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ьников о Содружестве Независимых Государств, о символике каждого государ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143000" y="21420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Презентация для проведения «Урока Содружества  Независимых Государ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http://festival.1september.ru/articles/576439/img2.gif"/>
          <p:cNvPicPr/>
          <p:nvPr/>
        </p:nvPicPr>
        <p:blipFill>
          <a:blip r:embed="rId1"/>
          <a:stretch/>
        </p:blipFill>
        <p:spPr>
          <a:xfrm>
            <a:off x="1500120" y="3929040"/>
            <a:ext cx="6715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1143000" y="714240"/>
            <a:ext cx="7643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В настоящее время в состав СНГ входя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11 государст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57120" y="214200"/>
          <a:ext cx="8572680" cy="198144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ербайджанская 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67" name="Picture 13" descr=""/>
          <p:cNvPicPr/>
          <p:nvPr/>
        </p:nvPicPr>
        <p:blipFill>
          <a:blip r:embed="rId2"/>
          <a:stretch/>
        </p:blipFill>
        <p:spPr>
          <a:xfrm>
            <a:off x="428760" y="2500200"/>
            <a:ext cx="242892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3"/>
          <a:stretch/>
        </p:blipFill>
        <p:spPr>
          <a:xfrm>
            <a:off x="3643200" y="2214720"/>
            <a:ext cx="1905120" cy="207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6429240" y="2357280"/>
            <a:ext cx="1714680" cy="2267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http://festival.1september.ru/articles/576439/img8.gif"/>
          <p:cNvPicPr/>
          <p:nvPr/>
        </p:nvPicPr>
        <p:blipFill>
          <a:blip r:embed="rId5"/>
          <a:stretch/>
        </p:blipFill>
        <p:spPr>
          <a:xfrm>
            <a:off x="285840" y="3984480"/>
            <a:ext cx="3254400" cy="287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6072120" y="4786200"/>
            <a:ext cx="264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льх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йда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Арм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рев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2428920" cy="121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3929040" y="21430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6643800" y="2071800"/>
            <a:ext cx="1989000" cy="2214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6715080" y="4643280"/>
            <a:ext cx="221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ргся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Cер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зат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6" descr="http://festival.1september.ru/articles/576439/img13.gif"/>
          <p:cNvPicPr/>
          <p:nvPr/>
        </p:nvPicPr>
        <p:blipFill>
          <a:blip r:embed="rId5"/>
          <a:stretch/>
        </p:blipFill>
        <p:spPr>
          <a:xfrm>
            <a:off x="285840" y="3571920"/>
            <a:ext cx="29289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Белару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2714400" cy="1357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1905120" cy="1895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4"/>
          <a:stretch/>
        </p:blipFill>
        <p:spPr>
          <a:xfrm>
            <a:off x="6786720" y="2000160"/>
            <a:ext cx="179856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6643800" y="4429080"/>
            <a:ext cx="221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укашенко Александр Григо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7" descr="http://festival.1september.ru/articles/576439/img14.gif"/>
          <p:cNvPicPr/>
          <p:nvPr/>
        </p:nvPicPr>
        <p:blipFill>
          <a:blip r:embed="rId5"/>
          <a:srcRect l="25505" t="53575" r="14498" b="0"/>
          <a:stretch/>
        </p:blipFill>
        <p:spPr>
          <a:xfrm>
            <a:off x="214200" y="4071960"/>
            <a:ext cx="404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Казах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т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57120" y="2071800"/>
            <a:ext cx="2714760" cy="13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3786120" y="2214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4"/>
          <a:stretch/>
        </p:blipFill>
        <p:spPr>
          <a:xfrm>
            <a:off x="6643800" y="1928880"/>
            <a:ext cx="1687320" cy="2428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http://festival.1september.ru/articles/576439/img6.gif"/>
          <p:cNvPicPr/>
          <p:nvPr/>
        </p:nvPicPr>
        <p:blipFill>
          <a:blip r:embed="rId5"/>
          <a:srcRect l="4498" t="43044" r="0" b="0"/>
          <a:stretch/>
        </p:blipFill>
        <p:spPr>
          <a:xfrm>
            <a:off x="214200" y="4214880"/>
            <a:ext cx="4548240" cy="2428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6500880" y="4643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рсултан Абишевич Назарб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ыргызская 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шк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95" name="Рисунок 12" descr="http://festival.1september.ru/articles/576439/img9.gif"/>
          <p:cNvPicPr/>
          <p:nvPr/>
        </p:nvPicPr>
        <p:blipFill>
          <a:blip r:embed="rId2"/>
          <a:srcRect l="12004" t="46777" r="998" b="6454"/>
          <a:stretch/>
        </p:blipFill>
        <p:spPr>
          <a:xfrm>
            <a:off x="214200" y="3857760"/>
            <a:ext cx="5143680" cy="2571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Флаг Кыргызской Республики"/>
          <p:cNvPicPr/>
          <p:nvPr/>
        </p:nvPicPr>
        <p:blipFill>
          <a:blip r:embed="rId3"/>
          <a:stretch/>
        </p:blipFill>
        <p:spPr>
          <a:xfrm>
            <a:off x="285840" y="2000160"/>
            <a:ext cx="228600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Герб Кыргызской Республики"/>
          <p:cNvPicPr/>
          <p:nvPr/>
        </p:nvPicPr>
        <p:blipFill>
          <a:blip r:embed="rId4"/>
          <a:stretch/>
        </p:blipFill>
        <p:spPr>
          <a:xfrm>
            <a:off x="3786120" y="1857240"/>
            <a:ext cx="1900440" cy="190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6143760" y="2000160"/>
            <a:ext cx="2409840" cy="171468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6143760" y="4357800"/>
            <a:ext cx="27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унба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Молд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шин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3643200" y="2000160"/>
            <a:ext cx="1905120" cy="234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285840" y="2000160"/>
            <a:ext cx="271440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5929200" y="2286000"/>
            <a:ext cx="2664000" cy="1785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9" descr="http://festival.1september.ru/articles/576439/img16.gif"/>
          <p:cNvPicPr/>
          <p:nvPr/>
        </p:nvPicPr>
        <p:blipFill>
          <a:blip r:embed="rId5"/>
          <a:stretch/>
        </p:blipFill>
        <p:spPr>
          <a:xfrm>
            <a:off x="357120" y="3500280"/>
            <a:ext cx="2286000" cy="3319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5715000" y="4500720"/>
            <a:ext cx="3429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ха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мп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енно исполняющий обязанности президента Республики Молд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http://festival.1september.ru/articles/576439/img5.gif"/>
          <p:cNvPicPr/>
          <p:nvPr/>
        </p:nvPicPr>
        <p:blipFill>
          <a:blip r:embed="rId2"/>
          <a:srcRect l="19593" t="50904" r="16736" b="0"/>
          <a:stretch/>
        </p:blipFill>
        <p:spPr>
          <a:xfrm>
            <a:off x="214200" y="4214880"/>
            <a:ext cx="5000760" cy="25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57120" y="214200"/>
          <a:ext cx="8572680" cy="198144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йская Фед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тивная 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285840" y="2428920"/>
            <a:ext cx="2363760" cy="157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786120" y="2428920"/>
            <a:ext cx="1905120" cy="2257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tretch/>
        </p:blipFill>
        <p:spPr>
          <a:xfrm>
            <a:off x="6858000" y="2357280"/>
            <a:ext cx="180648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2"/>
          <p:cNvSpPr/>
          <p:nvPr/>
        </p:nvSpPr>
        <p:spPr>
          <a:xfrm>
            <a:off x="6643800" y="47862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мит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толь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двед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Таджики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шан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16" name="Рисунок 20" descr="http://festival.1september.ru/articles/576439/img17.gif"/>
          <p:cNvPicPr/>
          <p:nvPr/>
        </p:nvPicPr>
        <p:blipFill>
          <a:blip r:embed="rId2"/>
          <a:srcRect l="14997" t="45212" r="2502" b="6103"/>
          <a:stretch/>
        </p:blipFill>
        <p:spPr>
          <a:xfrm>
            <a:off x="214200" y="4286160"/>
            <a:ext cx="449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285840" y="2214720"/>
            <a:ext cx="3000240" cy="1500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3857760" y="2214720"/>
            <a:ext cx="1904760" cy="186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5"/>
          <a:stretch/>
        </p:blipFill>
        <p:spPr>
          <a:xfrm>
            <a:off x="6357960" y="2214720"/>
            <a:ext cx="2479680" cy="19285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8"/>
          <p:cNvSpPr/>
          <p:nvPr/>
        </p:nvSpPr>
        <p:spPr>
          <a:xfrm>
            <a:off x="6143760" y="457200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мом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рип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хм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Туркмени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шхаб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23" name="Рисунок 13" descr="http://festival.1september.ru/articles/576439/img10.gif"/>
          <p:cNvPicPr/>
          <p:nvPr/>
        </p:nvPicPr>
        <p:blipFill>
          <a:blip r:embed="rId2"/>
          <a:srcRect l="10159" t="49663" r="1580" b="4501"/>
          <a:stretch/>
        </p:blipFill>
        <p:spPr>
          <a:xfrm>
            <a:off x="285840" y="4143240"/>
            <a:ext cx="5429160" cy="2214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6072120" y="450072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рдымухамедов Гурбангулы Мяликгулыеви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6143760" y="2143080"/>
            <a:ext cx="2523960" cy="1928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Флаг Туркменистана (Туркмении)"/>
          <p:cNvPicPr/>
          <p:nvPr/>
        </p:nvPicPr>
        <p:blipFill>
          <a:blip r:embed="rId4"/>
          <a:stretch/>
        </p:blipFill>
        <p:spPr>
          <a:xfrm>
            <a:off x="285840" y="192888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Герб Туркменистана (Туркмении)"/>
          <p:cNvPicPr/>
          <p:nvPr/>
        </p:nvPicPr>
        <p:blipFill>
          <a:blip r:embed="rId5"/>
          <a:stretch/>
        </p:blipFill>
        <p:spPr>
          <a:xfrm>
            <a:off x="3357720" y="2000160"/>
            <a:ext cx="19000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9" descr=""/>
          <p:cNvPicPr/>
          <p:nvPr/>
        </p:nvPicPr>
        <p:blipFill>
          <a:blip r:embed="rId2"/>
          <a:stretch/>
        </p:blipFill>
        <p:spPr>
          <a:xfrm>
            <a:off x="944640" y="1542960"/>
            <a:ext cx="72612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Узбеки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шк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285840" y="2071800"/>
            <a:ext cx="2857320" cy="1428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857760" y="1928880"/>
            <a:ext cx="1904760" cy="19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6572160" y="1857240"/>
            <a:ext cx="1785960" cy="26798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6429240" y="457200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лам Абдуганиевич Карим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4" descr="http://festival.1september.ru/articles/576439/img11.gif"/>
          <p:cNvPicPr/>
          <p:nvPr/>
        </p:nvPicPr>
        <p:blipFill>
          <a:blip r:embed="rId5"/>
          <a:srcRect l="13501" t="35191" r="0" b="4507"/>
          <a:stretch/>
        </p:blipFill>
        <p:spPr>
          <a:xfrm>
            <a:off x="214200" y="3786120"/>
            <a:ext cx="4119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Укра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37" name="Рисунок 21" descr="http://festival.1september.ru/articles/576439/img18.gif"/>
          <p:cNvPicPr/>
          <p:nvPr/>
        </p:nvPicPr>
        <p:blipFill>
          <a:blip r:embed="rId2"/>
          <a:srcRect l="16758" t="48252" r="0" b="2150"/>
          <a:stretch/>
        </p:blipFill>
        <p:spPr>
          <a:xfrm>
            <a:off x="214200" y="4214880"/>
            <a:ext cx="4475160" cy="20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357120" y="2143080"/>
            <a:ext cx="2470320" cy="164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3500280" y="2000160"/>
            <a:ext cx="1714680" cy="238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5"/>
          <a:stretch/>
        </p:blipFill>
        <p:spPr>
          <a:xfrm>
            <a:off x="6072120" y="2071800"/>
            <a:ext cx="2741760" cy="1928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6429240" y="450072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ктор Фёдорович Янук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357120" y="0"/>
            <a:ext cx="8415360" cy="49291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0" y="4179960"/>
            <a:ext cx="9144000" cy="265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Verdana"/>
                <a:ea typeface="Verdana"/>
              </a:rPr>
              <a:t>Перестав быть единым целым, мы остались сосед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Verdana"/>
                <a:ea typeface="Verdana"/>
              </a:rPr>
              <a:t>И нас гораздо больше связывает, чем разъедин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Verdana"/>
                <a:ea typeface="Verdana"/>
              </a:rPr>
              <a:t>Единое правовое пространство позволяет лучше понять друг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9" descr=""/>
          <p:cNvPicPr/>
          <p:nvPr/>
        </p:nvPicPr>
        <p:blipFill>
          <a:blip r:embed="rId2"/>
          <a:stretch/>
        </p:blipFill>
        <p:spPr>
          <a:xfrm>
            <a:off x="-195120" y="152280"/>
            <a:ext cx="2212920" cy="31575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1" descr=""/>
          <p:cNvPicPr/>
          <p:nvPr/>
        </p:nvPicPr>
        <p:blipFill>
          <a:blip r:embed="rId3"/>
          <a:stretch/>
        </p:blipFill>
        <p:spPr>
          <a:xfrm>
            <a:off x="-189000" y="2077920"/>
            <a:ext cx="2335320" cy="3159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12" descr=""/>
          <p:cNvPicPr/>
          <p:nvPr/>
        </p:nvPicPr>
        <p:blipFill>
          <a:blip r:embed="rId4"/>
          <a:stretch/>
        </p:blipFill>
        <p:spPr>
          <a:xfrm>
            <a:off x="-42840" y="4151160"/>
            <a:ext cx="2090880" cy="31575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4" descr=""/>
          <p:cNvPicPr/>
          <p:nvPr/>
        </p:nvPicPr>
        <p:blipFill>
          <a:blip r:embed="rId5"/>
          <a:stretch/>
        </p:blipFill>
        <p:spPr>
          <a:xfrm>
            <a:off x="549360" y="152280"/>
            <a:ext cx="8832600" cy="31575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6" descr=""/>
          <p:cNvPicPr/>
          <p:nvPr/>
        </p:nvPicPr>
        <p:blipFill>
          <a:blip r:embed="rId6"/>
          <a:stretch/>
        </p:blipFill>
        <p:spPr>
          <a:xfrm>
            <a:off x="487440" y="2077920"/>
            <a:ext cx="9101160" cy="31593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7" descr=""/>
          <p:cNvPicPr/>
          <p:nvPr/>
        </p:nvPicPr>
        <p:blipFill>
          <a:blip r:embed="rId7"/>
          <a:stretch/>
        </p:blipFill>
        <p:spPr>
          <a:xfrm>
            <a:off x="549360" y="4151160"/>
            <a:ext cx="77468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357120" y="500040"/>
            <a:ext cx="85726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НГ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шифровыва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одружество Независимы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Государст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зовано 8 декабря 1991 года в белорусской столице Минс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0"/>
            <a:ext cx="914400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начально в СНГ вош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Российская Советская Федеративная Социалистическая Республ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краи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елорусс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днее к ним присоединились и другие союзные государ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зербайдж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рм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азахст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иргиз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олдав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аджикист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ркм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збекист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руз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http://festival.1september.ru/articles/576439/img2.gif"/>
          <p:cNvPicPr/>
          <p:nvPr/>
        </p:nvPicPr>
        <p:blipFill>
          <a:blip r:embed="rId2"/>
          <a:stretch/>
        </p:blipFill>
        <p:spPr>
          <a:xfrm>
            <a:off x="428760" y="1500120"/>
            <a:ext cx="828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43040" y="1143000"/>
            <a:ext cx="614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НГ создавалось для сотрудничества между странами во многих областях: политики, экономики, культуры, науки и т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rcRect l="1055" t="1638" r="2105" b="1478"/>
          <a:stretch/>
        </p:blipFill>
        <p:spPr>
          <a:xfrm>
            <a:off x="714240" y="1714680"/>
            <a:ext cx="7637760" cy="4897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785960" y="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друж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зависи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осудар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857240" y="1785960"/>
            <a:ext cx="5667480" cy="2833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1285920" y="214200"/>
            <a:ext cx="6357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дружества Независим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786040" y="2000160"/>
            <a:ext cx="3384720" cy="321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1285920" y="214200"/>
            <a:ext cx="6357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дружества Независим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1-20T19:20:59Z</dcterms:modified>
  <cp:revision>31</cp:revision>
  <dc:subject/>
  <dc:title>Слайд 1</dc:title>
</cp:coreProperties>
</file>