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12.jpeg" ContentType="image/jpeg"/>
  <Override PartName="/ppt/media/image7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DA0-D5DA-462E-B246-6C83C1FF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793-BAC9-4E5B-88B6-7D8EC5E3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270-088F-455F-85A1-DCE426E2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A83-AD3B-4518-A21F-C458131E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B9F6-F225-4604-9CC2-83FE3DE1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0100-2772-4ADF-9C8B-047B1D84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60FE-EA6B-4252-B519-DC8D3668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8987-32E8-43CB-84AB-2C42C2C8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9374-AEB2-4C35-A570-FA027334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8188-257A-47EC-9321-0EC243BB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C384-0FE4-41A4-881E-D1359E27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F40-4339-4CF8-B4E4-5F49C19E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A4F2-EA0E-4321-BE3A-A33F4915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B78C-FA35-445C-B5BF-8544218E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D21D-DFBC-4700-9A60-6E8D1B32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736E-AC5A-4EFA-B28C-4C13FAD4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240A-A29C-423E-B76E-B26008E1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AB4-133D-4202-94B0-E994BABF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4C4-11FB-4B70-8AFE-46432643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06D-A33E-40C9-BEF1-616E8189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DBF-D912-4512-B63F-C7F80403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496-19F6-4282-848F-C06F4491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A95-005B-401E-8228-EF57F8F7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9AF-918A-4805-A6AE-0FD4FCA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F28B-8DEE-4FAC-BDAE-A7A2E7C10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9F6B-E515-4939-8831-E7E08B8BB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hyperlink" Target="http://www.zin.ru/ANIMALIA/COLEOPTERA/images/lucanida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ru/imgres?imgurl=http://farm2.static.flickr.com/1421/633472876_4e225691f6.jpg&amp;imgrefurl=http://www.animalworld.ru/category/pticy/&amp;h=333&amp;w=500&amp;sz=146&amp;hl=ru&amp;start=5&amp;um=1&amp;usg=__D6vesNT3SZx6UbqSj4bafBztOQY=&amp;tbnid=NEH1nU0PapjnSM:&amp;tbnh=87&amp;tbnw=130&amp;prev=/images%3Fq%3D%25D0%25BA%25D0%25B0%25D1%2580%25D1%2582%25D0%25B8%25D0%25BD%25D0%25BA%25D0%25B8%2B%25D0%25B0%25D0%25B8%25D1%2581%25D1%2582%25D0%25B0%26um%3D1%26hl%3Dru%26lr%3D%26newwindow%3D1%26sa%3DX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posternazakaz.ru/shop/makeframe/34670/492/82/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posternazakaz.ru/shop/makeframe/24496/579/82/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google.ru/imgres?imgurl=http://macroevolution.narod.ru/burian/24.jpg&amp;imgrefurl=http://macroevolution.narod.ru/burian.htm&amp;h=677&amp;w=945&amp;sz=282&amp;tbnid=K25CYNufQeYJ::&amp;tbnh=106&amp;tbnw=148&amp;prev=/images%3Fq%3D%25D0%259A%25D0%25B0%25D1%2580%25D1%2582%25D0%25B8%25D0%25BD%25D0%25BA%25D0%25B0.%2B%25D0%2591%25D1%2580%25D0%25BE%25D0%25BD%25D1%2582%25D0%25BE%25D0%25B7%25D0%25B0%25D0%25B2%25D1%2580&amp;hl=ru&amp;usg=__KhsHnL0IdkyrNC_jokHfRZrcYsc=&amp;sa=X&amp;oi=image_result&amp;resnum=2&amp;ct=image&amp;cd=1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google.ru/imgres?imgurl=http://img1.liveinternet.ru/images/attach/b/3/26/379/26379138_kolibri2.jpg&amp;imgrefurl=http://www.liveinternet.ru/users/sveta_kosach/post79409425/&amp;h=568&amp;w=643&amp;sz=30&amp;tbnid=zHygoyJqzEcJ::&amp;tbnh=121&amp;tbnw=137&amp;prev=/images%3Fq%3D%25D0%259A%25D0%25B0%25D1%2580%25D1%2582%25D0%25B8%25D0%25BD%25D0%25BA%25D0%25B0.%2B%25D0%25BA%25D0%25BE%25D0%25BB%25D0%25B8%25D0%25B1%25D1%2580%25D0%25B8&amp;hl=ru&amp;usg=__6-U8KJG9wdpb87yH6zlEkJYAMrw=&amp;sa=X&amp;oi=image_result&amp;resnum=2&amp;ct=image&amp;cd=1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4360" y="549360"/>
            <a:ext cx="777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вездный час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2631960"/>
            <a:ext cx="8497800" cy="331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мире животных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Monotype Corsiva"/>
              </a:rPr>
              <a:t>Первый тур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0033cc"/>
                </a:solidFill>
                <a:latin typeface="Arial Black"/>
              </a:rPr>
              <a:t>«Отборочный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2160360" cy="201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1916280"/>
            <a:ext cx="207648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Пингвины"/>
          <p:cNvPicPr/>
          <p:nvPr/>
        </p:nvPicPr>
        <p:blipFill>
          <a:blip r:embed="rId6"/>
          <a:stretch/>
        </p:blipFill>
        <p:spPr>
          <a:xfrm>
            <a:off x="3276720" y="321300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5050"/>
                </a:solidFill>
                <a:latin typeface="Monotype Corsiva"/>
              </a:rPr>
              <a:t>Второй тур. </a:t>
            </a:r>
            <a:br>
              <a:rPr sz="7200"/>
            </a:br>
            <a:r>
              <a:rPr b="1" lang="en-US" sz="6000" spc="-1" strike="noStrike">
                <a:solidFill>
                  <a:srgbClr val="0033cc"/>
                </a:solidFill>
                <a:latin typeface="Arial Black"/>
              </a:rPr>
              <a:t>«Все о животных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7766280" cy="4763520"/>
        </p:xfrm>
        <a:graphic>
          <a:graphicData uri="http://schemas.openxmlformats.org/drawingml/2006/table">
            <a:tbl>
              <a:tblPr/>
              <a:tblGrid>
                <a:gridCol w="2588040"/>
                <a:gridCol w="2589840"/>
                <a:gridCol w="2588400"/>
              </a:tblGrid>
              <a:tr h="23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71520" y="2205000"/>
            <a:ext cx="197964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6360" y="4724280"/>
            <a:ext cx="2452680" cy="187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80000" y="2349360"/>
            <a:ext cx="2206440" cy="194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Черепахи"/>
          <p:cNvPicPr/>
          <p:nvPr/>
        </p:nvPicPr>
        <p:blipFill>
          <a:blip r:embed="rId4"/>
          <a:stretch/>
        </p:blipFill>
        <p:spPr>
          <a:xfrm>
            <a:off x="6084720" y="2365200"/>
            <a:ext cx="2448000" cy="1927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4765680"/>
            <a:ext cx="2376720" cy="183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64000" y="4797360"/>
            <a:ext cx="2376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Monotype Corsiva"/>
              </a:rPr>
              <a:t>Тайм – аут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 Black"/>
              </a:rPr>
              <a:t>«Рекорды в мире животных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392724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1700280"/>
            <a:ext cx="1711080" cy="23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macroevolution.narod.ru/burian.ht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709640"/>
            <a:ext cx="2448000" cy="1752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liveinternet.ru/users/sveta_kosach/post79409425/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525920"/>
            <a:ext cx="2451240" cy="2163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straus-farm.nm.ru/razvedenie.htm"/>
          <p:cNvPicPr/>
          <p:nvPr/>
        </p:nvPicPr>
        <p:blipFill>
          <a:blip r:embed="rId8"/>
          <a:stretch/>
        </p:blipFill>
        <p:spPr>
          <a:xfrm>
            <a:off x="7020000" y="4292640"/>
            <a:ext cx="18176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5050"/>
                </a:solidFill>
                <a:latin typeface="Monotype Corsiva"/>
              </a:rPr>
              <a:t>Третий тур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6000" spc="-1" strike="noStrike">
                <a:solidFill>
                  <a:srgbClr val="0033cc"/>
                </a:solidFill>
                <a:latin typeface="Arial Black"/>
              </a:rPr>
              <a:t>«Кто больше?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692080" cy="2019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739960" cy="2192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276720" y="3141720"/>
            <a:ext cx="278748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Monotype Corsiva"/>
              </a:rPr>
              <a:t>Четвертый тур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0033cc"/>
                </a:solidFill>
                <a:latin typeface="Arial Black"/>
              </a:rPr>
              <a:t>«Домашние животные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905120"/>
          <a:ext cx="8064000" cy="4619160"/>
        </p:xfrm>
        <a:graphic>
          <a:graphicData uri="http://schemas.openxmlformats.org/drawingml/2006/table">
            <a:tbl>
              <a:tblPr/>
              <a:tblGrid>
                <a:gridCol w="2687400"/>
                <a:gridCol w="2689200"/>
                <a:gridCol w="2687400"/>
              </a:tblGrid>
              <a:tr h="23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00720" y="198900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2376360" cy="2089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92360" y="4365720"/>
            <a:ext cx="2305080" cy="2127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16903" t="0" r="-1405" b="0"/>
          <a:stretch/>
        </p:blipFill>
        <p:spPr>
          <a:xfrm>
            <a:off x="826920" y="4365720"/>
            <a:ext cx="2262240" cy="216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048200" y="3090960"/>
            <a:ext cx="1047600" cy="676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артинки: Коровы, Козы и Овцы"/>
          <p:cNvPicPr/>
          <p:nvPr/>
        </p:nvPicPr>
        <p:blipFill>
          <a:blip r:embed="rId6"/>
          <a:stretch/>
        </p:blipFill>
        <p:spPr>
          <a:xfrm>
            <a:off x="3635280" y="1989000"/>
            <a:ext cx="2154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cc"/>
                </a:solidFill>
                <a:latin typeface="Arial Black"/>
              </a:rPr>
              <a:t>Спасибо за внимание!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79908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57:34Z</dcterms:created>
  <dc:creator>Света</dc:creator>
  <dc:description/>
  <dc:language>en-US</dc:language>
  <cp:lastModifiedBy>Света</cp:lastModifiedBy>
  <dcterms:modified xsi:type="dcterms:W3CDTF">2008-10-29T18:30:09Z</dcterms:modified>
  <cp:revision>12</cp:revision>
  <dc:subject/>
  <dc:title>Слайд 1</dc:title>
</cp:coreProperties>
</file>