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2.gif" ContentType="image/gif"/>
  <Override PartName="/ppt/media/image6.gif" ContentType="image/gif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3.gif" ContentType="image/gif"/>
  <Override PartName="/ppt/media/image12.jpeg" ContentType="image/jpeg"/>
  <Override PartName="/ppt/media/image7.jpeg" ContentType="image/jpeg"/>
  <Override PartName="/ppt/media/image27.jpeg" ContentType="image/jpe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28.gif" ContentType="image/gif"/>
  <Override PartName="/ppt/media/image1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4D3D-B690-4FAD-B98E-5388A612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E795C-7831-42FB-8901-8EC287340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B2DA7-DB5A-42E4-8127-F1CFE9D6A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56FD4-6819-4F54-9257-3BF260E53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2A2179-BA68-42E7-AD65-544A195B9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315F-B8D1-4A35-BC84-3C6243FC8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43EE4C-F59E-4AEE-A87A-FCD1FDF13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C57BB-B7C2-43C4-926A-AA3737C53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2D5C8-BE75-4629-90B0-343F37CFE8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2E77F-34E9-47FE-A162-E2BA278BE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14842-962B-4734-B30B-5E6D2E143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5B9EC-69EB-492E-A9C0-DA351E9213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3AE9-CD91-428D-843F-D911A6989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0AF2-F1B6-489A-823B-DC45488BF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2057F-BBCF-4963-ADCE-B4D8D6D12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92651-5D97-49E2-B21C-3CE272CD8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75377-5AA8-45C9-8C7A-7103F0C822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5373-111D-43C7-95B1-5DADA5A32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6A175-151E-494C-9BAB-151B05CE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15CB-71D0-4FEB-B54E-39ABD9D64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96B5-596E-43E5-8870-D040343AB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31837-8855-4629-99C9-50DFCDD95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8980-CD85-4B63-8E04-3C8E5A155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4F33-B7EF-4718-AAA7-8BEC2904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C4671-F67F-4924-9D63-A5858C69C00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D345F-F6DC-4676-88CC-3CC183ABF8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hyperlink" Target="http://www.zin.ru/ANIMALIA/COLEOPTERA/images/lucanida.jpg" TargetMode="External"/><Relationship Id="rId5" Type="http://schemas.openxmlformats.org/officeDocument/2006/relationships/image" Target="../media/image4.jpeg"/><Relationship Id="rId6" Type="http://schemas.openxmlformats.org/officeDocument/2006/relationships/image" Target="../media/image5.jpeg"/><Relationship Id="rId7" Type="http://schemas.openxmlformats.org/officeDocument/2006/relationships/slideLayout" Target="../slideLayouts/slideLayout1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hyperlink" Target="http://images.google.ru/imgres?imgurl=http://farm2.static.flickr.com/1421/633472876_4e225691f6.jpg&amp;imgrefurl=http://www.animalworld.ru/category/pticy/&amp;h=333&amp;w=500&amp;sz=146&amp;hl=ru&amp;start=5&amp;um=1&amp;usg=__D6vesNT3SZx6UbqSj4bafBztOQY=&amp;tbnid=NEH1nU0PapjnSM:&amp;tbnh=87&amp;tbnw=130&amp;prev=/images%3Fq%3D%25D0%25BA%25D0%25B0%25D1%2580%25D1%2582%25D0%25B8%25D0%25BD%25D0%25BA%25D0%25B8%2B%25D0%25B0%25D0%25B8%25D1%2581%25D1%2582%25D0%25B0%26um%3D1%26hl%3Dru%26lr%3D%26newwindow%3D1%26sa%3DX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www.posternazakaz.ru/shop/makeframe/34670/492/82/" TargetMode="External"/><Relationship Id="rId8" Type="http://schemas.openxmlformats.org/officeDocument/2006/relationships/image" Target="../media/image11.jpeg"/><Relationship Id="rId9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www.posternazakaz.ru/shop/makeframe/24496/579/82/" TargetMode="External"/><Relationship Id="rId3" Type="http://schemas.openxmlformats.org/officeDocument/2006/relationships/image" Target="../media/image13.jpeg"/><Relationship Id="rId4" Type="http://schemas.openxmlformats.org/officeDocument/2006/relationships/hyperlink" Target="http://www.google.ru/imgres?imgurl=http://macroevolution.narod.ru/burian/24.jpg&amp;imgrefurl=http://macroevolution.narod.ru/burian.htm&amp;h=677&amp;w=945&amp;sz=282&amp;tbnid=K25CYNufQeYJ::&amp;tbnh=106&amp;tbnw=148&amp;prev=/images%3Fq%3D%25D0%259A%25D0%25B0%25D1%2580%25D1%2582%25D0%25B8%25D0%25BD%25D0%25BA%25D0%25B0.%2B%25D0%2591%25D1%2580%25D0%25BE%25D0%25BD%25D1%2582%25D0%25BE%25D0%25B7%25D0%25B0%25D0%25B2%25D1%2580&amp;hl=ru&amp;usg=__KhsHnL0IdkyrNC_jokHfRZrcYsc=&amp;sa=X&amp;oi=image_result&amp;resnum=2&amp;ct=image&amp;cd=1" TargetMode="External"/><Relationship Id="rId5" Type="http://schemas.openxmlformats.org/officeDocument/2006/relationships/image" Target="../media/image14.jpeg"/><Relationship Id="rId6" Type="http://schemas.openxmlformats.org/officeDocument/2006/relationships/hyperlink" Target="http://www.google.ru/imgres?imgurl=http://img1.liveinternet.ru/images/attach/b/3/26/379/26379138_kolibri2.jpg&amp;imgrefurl=http://www.liveinternet.ru/users/sveta_kosach/post79409425/&amp;h=568&amp;w=643&amp;sz=30&amp;tbnid=zHygoyJqzEcJ::&amp;tbnh=121&amp;tbnw=137&amp;prev=/images%3Fq%3D%25D0%259A%25D0%25B0%25D1%2580%25D1%2582%25D0%25B8%25D0%25BD%25D0%25BA%25D0%25B0.%2B%25D0%25BA%25D0%25BE%25D0%25BB%25D0%25B8%25D0%25B1%25D1%2580%25D0%25B8&amp;hl=ru&amp;usg=__6-U8KJG9wdpb87yH6zlEkJYAMrw=&amp;sa=X&amp;oi=image_result&amp;resnum=2&amp;ct=image&amp;cd=1" TargetMode="External"/><Relationship Id="rId7" Type="http://schemas.openxmlformats.org/officeDocument/2006/relationships/image" Target="../media/image15.jpeg"/><Relationship Id="rId8" Type="http://schemas.openxmlformats.org/officeDocument/2006/relationships/image" Target="../media/image16.jpeg"/><Relationship Id="rId9" Type="http://schemas.openxmlformats.org/officeDocument/2006/relationships/slideLayout" Target="../slideLayouts/slideLayout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1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8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84360" y="549360"/>
            <a:ext cx="7775280" cy="1511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Звездный час</a:t>
            </a:r>
            <a:endParaRPr b="1" lang="en-US" sz="4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95280" y="2631960"/>
            <a:ext cx="8497800" cy="3318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В мире животных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Monotype Corsiva"/>
              </a:rPr>
              <a:t>Первый тур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6000" spc="-1" strike="noStrike">
                <a:solidFill>
                  <a:srgbClr val="0033cc"/>
                </a:solidFill>
                <a:latin typeface="Arial Black"/>
              </a:rPr>
              <a:t>«Отборочный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95280" y="191628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6227640" y="4437000"/>
            <a:ext cx="2160720" cy="216072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971640" y="4653000"/>
            <a:ext cx="2160360" cy="201924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6300720" y="1916280"/>
            <a:ext cx="2076480" cy="21603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Пингвины"/>
          <p:cNvPicPr/>
          <p:nvPr/>
        </p:nvPicPr>
        <p:blipFill>
          <a:blip r:embed="rId6"/>
          <a:stretch/>
        </p:blipFill>
        <p:spPr>
          <a:xfrm>
            <a:off x="3276720" y="3213000"/>
            <a:ext cx="2736720" cy="20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5050"/>
                </a:solidFill>
                <a:latin typeface="Monotype Corsiva"/>
              </a:rPr>
              <a:t>Второй тур. </a:t>
            </a:r>
            <a:br>
              <a:rPr sz="7200"/>
            </a:br>
            <a:r>
              <a:rPr b="1" lang="en-US" sz="6000" spc="-1" strike="noStrike">
                <a:solidFill>
                  <a:srgbClr val="0033cc"/>
                </a:solidFill>
                <a:latin typeface="Arial Black"/>
              </a:rPr>
              <a:t>«Все о животных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838080" y="1905120"/>
          <a:ext cx="7766280" cy="4763520"/>
        </p:xfrm>
        <a:graphic>
          <a:graphicData uri="http://schemas.openxmlformats.org/drawingml/2006/table">
            <a:tbl>
              <a:tblPr/>
              <a:tblGrid>
                <a:gridCol w="2588040"/>
                <a:gridCol w="2589840"/>
                <a:gridCol w="2588400"/>
              </a:tblGrid>
              <a:tr h="238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8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271520" y="2205000"/>
            <a:ext cx="1979640" cy="208764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6156360" y="4724280"/>
            <a:ext cx="2452680" cy="187344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3"/>
          <a:stretch/>
        </p:blipFill>
        <p:spPr>
          <a:xfrm>
            <a:off x="3780000" y="2349360"/>
            <a:ext cx="2206440" cy="19432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Черепахи"/>
          <p:cNvPicPr/>
          <p:nvPr/>
        </p:nvPicPr>
        <p:blipFill>
          <a:blip r:embed="rId4"/>
          <a:stretch/>
        </p:blipFill>
        <p:spPr>
          <a:xfrm>
            <a:off x="6084720" y="2365200"/>
            <a:ext cx="2448000" cy="19274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042920" y="4765680"/>
            <a:ext cx="2376720" cy="18320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>
            <a:hlinkClick r:id="rId7"/>
          </p:cNvPr>
          <p:cNvPicPr/>
          <p:nvPr/>
        </p:nvPicPr>
        <p:blipFill>
          <a:blip r:embed="rId8"/>
          <a:stretch/>
        </p:blipFill>
        <p:spPr>
          <a:xfrm>
            <a:off x="3564000" y="4797360"/>
            <a:ext cx="2376360" cy="18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8930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5050"/>
                </a:solidFill>
                <a:latin typeface="Monotype Corsiva"/>
              </a:rPr>
              <a:t>Тайм – аут.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4000" spc="-1" strike="noStrike">
                <a:solidFill>
                  <a:srgbClr val="0033cc"/>
                </a:solidFill>
                <a:latin typeface="Arial Black"/>
              </a:rPr>
              <a:t>«Рекорды в мире животных»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843280" y="2565360"/>
            <a:ext cx="3927240" cy="314172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020000" y="1700280"/>
            <a:ext cx="1711080" cy="237636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http://macroevolution.narod.ru/burian.htm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179280" y="1709640"/>
            <a:ext cx="2448000" cy="17528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http://www.liveinternet.ru/users/sveta_kosach/post79409425/">
            <a:hlinkClick r:id="rId6"/>
          </p:cNvPr>
          <p:cNvPicPr/>
          <p:nvPr/>
        </p:nvPicPr>
        <p:blipFill>
          <a:blip r:embed="rId7"/>
          <a:stretch/>
        </p:blipFill>
        <p:spPr>
          <a:xfrm>
            <a:off x="179280" y="4525920"/>
            <a:ext cx="2451240" cy="21639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http://www.straus-farm.nm.ru/razvedenie.htm"/>
          <p:cNvPicPr/>
          <p:nvPr/>
        </p:nvPicPr>
        <p:blipFill>
          <a:blip r:embed="rId8"/>
          <a:stretch/>
        </p:blipFill>
        <p:spPr>
          <a:xfrm>
            <a:off x="7020000" y="4292640"/>
            <a:ext cx="181764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5050"/>
                </a:solidFill>
                <a:latin typeface="Monotype Corsiva"/>
              </a:rPr>
              <a:t>Третий тур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br>
              <a:rPr sz="4000"/>
            </a:br>
            <a:r>
              <a:rPr b="1" lang="en-US" sz="6000" spc="-1" strike="noStrike">
                <a:solidFill>
                  <a:srgbClr val="0033cc"/>
                </a:solidFill>
                <a:latin typeface="Arial Black"/>
              </a:rPr>
              <a:t>«Кто больше?»</a:t>
            </a:r>
            <a:endParaRPr b="1" lang="en-US" sz="6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324000" y="1916280"/>
            <a:ext cx="2692080" cy="20192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227640" y="1916280"/>
            <a:ext cx="2737080" cy="21891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324000" y="4221000"/>
            <a:ext cx="2739960" cy="219240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4"/>
          <a:stretch/>
        </p:blipFill>
        <p:spPr>
          <a:xfrm>
            <a:off x="6227640" y="4437000"/>
            <a:ext cx="2692440" cy="20192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5"/>
          <a:stretch/>
        </p:blipFill>
        <p:spPr>
          <a:xfrm>
            <a:off x="3276720" y="3141720"/>
            <a:ext cx="2787480" cy="20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5050"/>
                </a:solidFill>
                <a:latin typeface="Monotype Corsiva"/>
              </a:rPr>
              <a:t>Четвертый тур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800" spc="-1" strike="noStrike">
                <a:solidFill>
                  <a:srgbClr val="0033cc"/>
                </a:solidFill>
                <a:latin typeface="Arial Black"/>
              </a:rPr>
              <a:t>«Домашние животные»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468360" y="1905120"/>
          <a:ext cx="8064000" cy="4619160"/>
        </p:xfrm>
        <a:graphic>
          <a:graphicData uri="http://schemas.openxmlformats.org/drawingml/2006/table">
            <a:tbl>
              <a:tblPr/>
              <a:tblGrid>
                <a:gridCol w="2687400"/>
                <a:gridCol w="2689200"/>
                <a:gridCol w="2687400"/>
              </a:tblGrid>
              <a:tr h="2309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309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300720" y="1989000"/>
            <a:ext cx="2158920" cy="2160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755640" y="2060640"/>
            <a:ext cx="2376360" cy="2089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3492360" y="4365720"/>
            <a:ext cx="2305080" cy="212724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rcRect l="16903" t="0" r="-1405" b="0"/>
          <a:stretch/>
        </p:blipFill>
        <p:spPr>
          <a:xfrm>
            <a:off x="826920" y="4365720"/>
            <a:ext cx="2262240" cy="216036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>
            <a:off x="4048200" y="3090960"/>
            <a:ext cx="1047600" cy="67608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Картинки: Коровы, Козы и Овцы"/>
          <p:cNvPicPr/>
          <p:nvPr/>
        </p:nvPicPr>
        <p:blipFill>
          <a:blip r:embed="rId6"/>
          <a:stretch/>
        </p:blipFill>
        <p:spPr>
          <a:xfrm>
            <a:off x="3635280" y="1989000"/>
            <a:ext cx="2154240" cy="215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6600cc"/>
                </a:solidFill>
                <a:latin typeface="Arial Black"/>
              </a:rPr>
              <a:t>Спасибо за внимание!</a:t>
            </a:r>
            <a:endParaRPr b="1" lang="en-US" sz="5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2771640" y="1268280"/>
            <a:ext cx="379908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16:57:34Z</dcterms:created>
  <dc:creator>Света</dc:creator>
  <dc:description/>
  <dc:language>en-US</dc:language>
  <cp:lastModifiedBy>Света</cp:lastModifiedBy>
  <dcterms:modified xsi:type="dcterms:W3CDTF">2008-10-29T18:30:09Z</dcterms:modified>
  <cp:revision>12</cp:revision>
  <dc:subject/>
  <dc:title>Слайд 1</dc:title>
</cp:coreProperties>
</file>