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F92-23D5-44B4-82F1-F3DD762C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632-C1C0-4799-91CA-947F996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92C-2379-4A26-A044-5A2C951D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E74-80EF-41C0-A95A-6C85AA25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776-96DE-4079-8384-7AFEDD3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18-9DF5-4329-9136-9035564E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ACA-CB44-4A76-9BA7-39B9964F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29F-4069-4921-B8F7-9121564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6A7-36C0-40F4-85D6-0D5750D8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CCB-0C46-4B68-94A3-1856085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F6-61BD-4251-A46B-93E41FEC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178-DC84-4C0A-BA17-CB19B87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B37-0444-4007-A2D0-5CC7D3EF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692280"/>
            <a:ext cx="7496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тературная викторина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2637000"/>
            <a:ext cx="793440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Счастливый случай»</a:t>
            </a:r>
            <a:endParaRPr b="0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0"/>
            <a:ext cx="8064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3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19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рманщик, смастеривший Бурати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Папа Кар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рыса старухи Шапокля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Лар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ликий и ужасны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Гудв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ружие железного дровос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о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амый умный коротышка Цветочного горо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Знай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то поймал необыкновенную щу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Ем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Почтальон деревни Простокваши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Пантера, друг Мауг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Баг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Кто потерял хрустальную туфель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Кем стал гадкий утен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Лебед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Кто попал в Зазеркаль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Али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907920"/>
            <a:ext cx="244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Печк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2997360"/>
            <a:ext cx="24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Золуш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84280"/>
            <a:ext cx="856908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Заморочки из бочки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67280" y="3716280"/>
            <a:ext cx="22730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…- Ну и как, там удобно сидеть, под партой? Ты сегодня сидел очень тихо. Вот так бы всегда на урока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Как я под партой сидел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. В.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«…А Володя ничего не спросил. Он подошёл к Вите, разломил пополам кусок хлеба с маслом и протянул товарищ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и, еш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Три товарищ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. А. Осе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«… Я открыл коробочку и сперва ничего не увидел, а потом увидел маленький светло-зелёный огонёк, как будто где-то, далеко-далеко от меня, горела крошечная звёздочка, и в это же время я сам держал её сейчас в руках.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Он живой и светитс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. Ю. Драгу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«...Мама наконец поняла, где нужно искать. Она увидела Алёшу. Она смерила глазами расстояние от его ветки до земли, и лицо у неё стало почти такое же белое, как этот ровный берёзовый ствол.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Большая берёз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. М. Артюх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«...Она подпрыгнула к двенадцатилетнему мальчику, сыну капитана корабля, сорвала с его головы шляпу, надела и живо взобралась на мачту. Все засмеялись, а мальчик остался без шляпы и сам не знал, смеяться ли ему или сердиться..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Прыж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Л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«...Пел, пел да и вывалился из гнезда, а воробьиха за ним, а кошка—рыжая, зелёные глаза—тут как тут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Воробьиш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11280" y="1268280"/>
            <a:ext cx="8064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«Разминка»</a:t>
            </a:r>
            <a:endParaRPr b="1" lang="en-US" sz="66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167292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508640"/>
            <a:ext cx="17319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«...Так вот: жила – была жаба—неуклюжая, некрасивая, вдобавок от неё пахло чесноком, а вместо колючек у неё были—можешь себе представить!—бородавки. Брр!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Серая Звёзд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Б. В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«...У домика на телячьих ножках росли рожки. У домика на заячьих ножках росли ушки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«Цыплён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Г. М. Цыф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«Мама приходит с рабо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снимает 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приходит в д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ма глядит кругом..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«Всё в поряд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Э. Н. 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413000"/>
            <a:ext cx="896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ёмная лошадк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4633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Соедини героев книг с их авторами»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5 из 8"/>
          <p:cNvPicPr/>
          <p:nvPr/>
        </p:nvPicPr>
        <p:blipFill>
          <a:blip r:embed="rId1"/>
          <a:stretch/>
        </p:blipFill>
        <p:spPr>
          <a:xfrm>
            <a:off x="395280" y="155736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1 из 5"/>
          <p:cNvPicPr/>
          <p:nvPr/>
        </p:nvPicPr>
        <p:blipFill>
          <a:blip r:embed="rId2"/>
          <a:stretch/>
        </p:blipFill>
        <p:spPr>
          <a:xfrm>
            <a:off x="5148360" y="4221000"/>
            <a:ext cx="1585800" cy="218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1 из 6"/>
          <p:cNvPicPr/>
          <p:nvPr/>
        </p:nvPicPr>
        <p:blipFill>
          <a:blip r:embed="rId3"/>
          <a:stretch/>
        </p:blipFill>
        <p:spPr>
          <a:xfrm>
            <a:off x="3708360" y="1628640"/>
            <a:ext cx="1496880" cy="218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8000" y="4149720"/>
            <a:ext cx="1549440" cy="2187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020000" y="1628640"/>
            <a:ext cx="1754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юймовочка                            Р. Кип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кин                                     Ерш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поллино                              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ха-цокотуха                       А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ая шапочка                   Н. 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найка                                Ш. Пер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ратино                                 Д. Р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ь Салтан                           Э. Усп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ёк-Горбунок                    Г. 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угли                                   К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лсон                                  А. Линдг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765000"/>
            <a:ext cx="2448000" cy="38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1268280"/>
            <a:ext cx="352908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773360"/>
            <a:ext cx="295272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2349360"/>
            <a:ext cx="223200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2852640"/>
            <a:ext cx="172728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95640" y="2781000"/>
            <a:ext cx="2952720" cy="57636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95640" y="2276640"/>
            <a:ext cx="3024000" cy="1584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71640" y="1773000"/>
            <a:ext cx="2521080" cy="259236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03640" y="1268280"/>
            <a:ext cx="2089080" cy="360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35280" y="765000"/>
            <a:ext cx="3457440" cy="460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5877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9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7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9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Чья команда быстрее даст от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341360"/>
            <a:ext cx="84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нка за лидером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кого убежала пос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т Федо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 какой сказке людоед превращается в мышку и кот ее съед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от в сапог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Из чего солдат варил каш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Из топ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Что посоветовал Муравей Стрёкозе в басне «Стрекоза и Муравей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опляс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Кто носил сковороду на голов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Человек рассеянный с улицы Бассей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Из какого города были герои сказки «Бременские музыкант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Брем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Кто написал стихотворение «Веревочк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А. Бар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то написал рассказ «Живая шляп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. Но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ого вылепили старики со старухой из снега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Снегуроч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Кого испугались звери в сказ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 Чуковского «Тараканище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Тарак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Кто спас Муху-цокотух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ом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В этой сказке всего по три: три героя, по три предмета у каждого. Назовите эту сказ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Три медвед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Назовите имена трех поросят из сказки «Три поросен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иф-ниф, Наф-наф, Нуф-Ну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 Героиня какой сказки проснулась от поцелуя принц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Спящая красав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Как звали девочку, которая видела Серебряное копытц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Дарё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Гейм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1484280"/>
            <a:ext cx="82087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Ты мне, я тебе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890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Из какой сказки выражение: «Остаться у разбитого корыта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Сказка о рыбаке и рыб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 Чем играл братец Иванушка из сказки «Гуси-лебеди» у бабы Я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Золотым яблоч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 Из какой сказки выражение: «Как аукнулось, так и откликнулось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Лиса и Журав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 Кто выручил из беды Петушка в русской народной сказке «Кот, Петух и Лиса»?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Ко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 Что держала в клюве Ворона, в басне «Ворона и Лис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Сы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. Сказка «Колосок», где герои Круть и Верть, русская или украинс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Украин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. Чем ловил Волк рыбу в сказке «Лисичка-сестричка и серый Волк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Хвост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. В кого превратились 11 братьев-принцев из сказки Г.Х. Андерс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В лебед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. Какое волшебное средство было у Урфина Джюс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Живительный порош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. На чем летела на юг лягуш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а прутике, который держали ут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6. Кто из литературных героев был другом маркиза де Карабаса из сказки Ш. Перро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Кот в сапог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7. Кто из литературных героев был обманут в стране дураков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Бурати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8. Кто такой дядя Федор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Мальчи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9. Черепаха, подарившая Буратино золотой ключик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Черепаха Тортил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0. Героя какой сказки всё время хотели съе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Колобо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1.В каком городе жил Незнай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(Цветочно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765000"/>
            <a:ext cx="820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ем удачи! До новых встреч!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427640" cy="31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3213000"/>
            <a:ext cx="2693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опросы к команде 1: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 сказках лиса обычно называла волка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ку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Жилище Бабы Яг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Избушка на курьих ножк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Второе название скатерт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Самобра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Кто из обитателей болот стал женой цареви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Лягуш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Аппарат, на котором Баба Яга совершает полет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Сту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Что потеряла Золушка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Хрустальную туфель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Кого маленькая разбойница дала в помощь Герд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лен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Что попало Каю в глаз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Осколок зерка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акие цветы собирала падчерица в сказке «Двенадцать месяцев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Подснеж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Кукла из театра Карабаса Бараба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Мальв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Какой волшебный предмет был у Аладд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Лампа с джин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2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752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Художник из цветочного горо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юб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Медведь, обучающий Маугли Закону джунгле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Ба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Веселый человечек-луковк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Чиполли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Лиса — спутница кота Базили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Али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 Мальчик, у которого самый лучший в мире друг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Малы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. Прозвище дяди Степ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Калан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Герой русской народной сказки, путешествующий на п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Ем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Содержимое Страш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Соло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 Крокодил, друг Чебура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Г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Сколько желаний старика исполнила золотая рыб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Т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 На чём совершили необыкновенное путешествие вокруг света капи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унгель, Лом и Фук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На яхте Бе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04:19Z</dcterms:created>
  <dc:creator>Яна</dc:creator>
  <dc:description/>
  <dc:language>en-US</dc:language>
  <cp:lastModifiedBy>Света</cp:lastModifiedBy>
  <dcterms:modified xsi:type="dcterms:W3CDTF">2009-05-05T19:23:38Z</dcterms:modified>
  <cp:revision>10</cp:revision>
  <dc:subject/>
  <dc:title>Слайд 1</dc:title>
</cp:coreProperties>
</file>