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12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gif" ContentType="image/gif"/>
  <Override PartName="/ppt/media/image9.png" ContentType="image/png"/>
  <Override PartName="/ppt/media/image6.gif" ContentType="image/gif"/>
  <Override PartName="/ppt/media/image2.gif" ContentType="image/gif"/>
  <Override PartName="/ppt/media/image10.jpeg" ContentType="image/jpeg"/>
  <Override PartName="/ppt/media/image7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4870-6945-442B-9982-14D9BD39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9FE4-A5EF-40D2-8F9A-A0CE3358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2A00-A274-47C0-A759-A098CBABD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2FB4-4C81-4A28-B951-822B323D1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75B9-D7EC-42FC-A5DB-AEAC9CD0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DA40-59C5-4A88-A0B5-C29E2594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DCC2-27B6-45AE-80D1-A324AE6D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4156-190D-4916-8081-615F48E0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B59F-41B1-4CC9-A95D-A61F72BD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D4A9-CA6D-4453-8826-A1A58C5F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E2B9-3763-4A22-ACA8-BC3B5FAC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94AF-39A7-4209-8510-96AB9C9C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7FA7-737D-4709-9BAA-EF622A621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00000" y="692280"/>
            <a:ext cx="749628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итературная викторина</a:t>
            </a:r>
            <a:endParaRPr b="1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95280" y="2637000"/>
            <a:ext cx="7934400" cy="23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Счастливый случай»</a:t>
            </a:r>
            <a:endParaRPr b="0" lang="en-US" sz="6600" spc="1" strike="noStrike">
              <a:ln w="12600">
                <a:solidFill>
                  <a:srgbClr val="3333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4360" y="0"/>
            <a:ext cx="806436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Times New Roman"/>
              </a:rPr>
              <a:t>Вопросы к команде 3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Times New Roman"/>
              <a:ea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76720" y="3213000"/>
            <a:ext cx="28191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арманщик, смастеривший Буратин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Папа Карл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Крыса старухи Шапокля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Ларис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Великий и ужасны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Гудви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Оружие железного дровосек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Топо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Самый умный коротышка Цветочного город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Знай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Кто поймал необыкновенную щук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Ем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. Почтальон деревни Простокваши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. Пантера, друг Маугл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(Баги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. Кто потерял хрустальную туфельк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. Кем стал гадкий утено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(Лебеде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. Кто попал в Зазеркаль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(Алис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19640" y="907920"/>
            <a:ext cx="244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(Печк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19640" y="2997360"/>
            <a:ext cx="244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(Золуш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Гейм 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4000" y="1484280"/>
            <a:ext cx="8569080" cy="210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Заморочки из бочки»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067280" y="3716280"/>
            <a:ext cx="227304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…- Ну и как, там удобно сидеть, под партой? Ты сегодня сидел очень тихо. Вот так бы всегда на уроках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«Как я под партой сидел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В. В. Голяв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«…А Володя ничего не спросил. Он подошёл к Вите, разломил пополам кусок хлеба с маслом и протянул товарищ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ери, ешь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«Три товарищ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В. А. Осе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«… Я открыл коробочку и сперва ничего не увидел, а потом увидел маленький светло-зелёный огонёк, как будто где-то, далеко-далеко от меня, горела крошечная звёздочка, и в это же время я сам держал её сейчас в руках. ..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«Он живой и светитс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В. Ю. Драгун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«...Мама наконец поняла, где нужно искать. Она увидела Алёшу. Она смерила глазами расстояние от его ветки до земли, и лицо у неё стало почти такое же белое, как этот ровный берёзовый ствол. ..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«Большая берёз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Н. М. Артюх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. «...Она подпрыгнула к двенадцатилетнему мальчику, сыну капитана корабля, сорвала с его головы шляпу, надела и живо взобралась на мачту. Все засмеялись, а мальчик остался без шляпы и сам не знал, смеяться ли ему или сердиться...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«Прыж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Л. Н. Толст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. «...Пел, пел да и вывалился из гнезда, а воробьиха за ним, а кошка—рыжая, зелёные глаза—тут как тут..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«Воробьишк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М. Горь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11280" y="1268280"/>
            <a:ext cx="8064360" cy="28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5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«Разминка»</a:t>
            </a:r>
            <a:endParaRPr b="1" lang="en-US" sz="66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Гейм 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4437000"/>
            <a:ext cx="1672920" cy="2008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4508640"/>
            <a:ext cx="173196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. «...Так вот: жила – была жаба—неуклюжая, некрасивая, вдобавок от неё пахло чесноком, а вместо колючек у неё были—можешь себе представить!—бородавки. Брр!.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«Серая Звёздоч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Б. В. Заход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. «...У домика на телячьих ножках росли рожки. У домика на заячьих ножках росли ушки..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«Цыплёно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Г. М. Цыфе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. «Мама приходит с работ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ама снимает бо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ама приходит в д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ама глядит кругом..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«Всё в порядк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Э. Н. Успен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Гейм 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79280" y="1413000"/>
            <a:ext cx="8964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«Тёмная лошадка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95640" y="3789360"/>
            <a:ext cx="463392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«Соедини героев книг с их авторами»</a:t>
            </a:r>
            <a:br>
              <a:rPr sz="6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Картинка 5 из 8"/>
          <p:cNvPicPr/>
          <p:nvPr/>
        </p:nvPicPr>
        <p:blipFill>
          <a:blip r:embed="rId1"/>
          <a:stretch/>
        </p:blipFill>
        <p:spPr>
          <a:xfrm>
            <a:off x="395280" y="1557360"/>
            <a:ext cx="1566720" cy="2185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Картинка 1 из 5"/>
          <p:cNvPicPr/>
          <p:nvPr/>
        </p:nvPicPr>
        <p:blipFill>
          <a:blip r:embed="rId2"/>
          <a:stretch/>
        </p:blipFill>
        <p:spPr>
          <a:xfrm>
            <a:off x="5148360" y="4221000"/>
            <a:ext cx="1585800" cy="2187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Картинка 1 из 6"/>
          <p:cNvPicPr/>
          <p:nvPr/>
        </p:nvPicPr>
        <p:blipFill>
          <a:blip r:embed="rId3"/>
          <a:stretch/>
        </p:blipFill>
        <p:spPr>
          <a:xfrm>
            <a:off x="3708360" y="1628640"/>
            <a:ext cx="1496880" cy="2186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908000" y="4149720"/>
            <a:ext cx="1549440" cy="2187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7020000" y="1628640"/>
            <a:ext cx="17542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юймовочка                            Р. Кипл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чкин                                     Ерш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иполлино                              А. Пуш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уха-цокотуха                       А. Тол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асная шапочка                   Н. Н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знайка                                Ш. Пер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уратино                                 Д. Рода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арь Салтан                           Э. Усп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ёк-Горбунок                    Г. Андерс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угли                                   К. Чук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рлсон                                  А. Линдгр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00360" y="765000"/>
            <a:ext cx="2448000" cy="388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63640" y="1268280"/>
            <a:ext cx="352908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40000" y="1773360"/>
            <a:ext cx="2952720" cy="19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87640" y="2349360"/>
            <a:ext cx="2232000" cy="302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92360" y="2852640"/>
            <a:ext cx="1727280" cy="4320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195640" y="2781000"/>
            <a:ext cx="2952720" cy="57636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95640" y="2276640"/>
            <a:ext cx="3024000" cy="158400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771640" y="1773000"/>
            <a:ext cx="2521080" cy="259236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203640" y="1268280"/>
            <a:ext cx="2089080" cy="36007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835280" y="765000"/>
            <a:ext cx="3457440" cy="4608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50920" y="5877000"/>
            <a:ext cx="309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77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9" dur="770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1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3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0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2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4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1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3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5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2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4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6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3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5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7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4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6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8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77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5" dur="770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7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9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77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6" dur="770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8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0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7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9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1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77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9" dur="770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1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3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Чья команда быстрее даст отве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4000" y="1341360"/>
            <a:ext cx="842472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онка за лидером</a:t>
            </a:r>
            <a:endParaRPr b="1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ff3399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Гейм 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 кого убежала посу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От Федор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В какой сказке людоед превращается в мышку и кот ее съедает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Кот в сапог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Из чего солдат варил каш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Из топо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Что посоветовал Муравей Стрёкозе в басне «Стрекоза и Муравей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Попляса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Кто носил сковороду на голов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Человек рассеянный с улицы Бассейн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50752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Из какого города были герои сказки «Бременские музыканты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Бреме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. Кто написал стихотворение «Веревочка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А. Барт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 Кто написал рассказ «Живая шляпа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Н. Нос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. Кого вылепили старики со старухой из снега?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Снегурочк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. Кого испугались звери в сказ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. Чуковского «Тараканище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Тарака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1. Кто спас Муху-цокотух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Кома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. В этой сказке всего по три: три героя, по три предмета у каждого. Назовите эту сказ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Три медвед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3. Назовите имена трех поросят из сказки «Три поросенк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Ниф-ниф, Наф-наф, Нуф-Ну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4. Героиня какой сказки проснулась от поцелуя принц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Спящая красавиц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. Как звали девочку, которая видела Серебряное копытц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Дарён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Гейм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11280" y="1484280"/>
            <a:ext cx="820872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Ты мне, я тебе»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940360" y="3068640"/>
            <a:ext cx="289080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. Из какой сказки выражение: «Остаться у разбитого корыта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Сказка о рыбаке и рыбк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. Чем играл братец Иванушка из сказки «Гуси-лебеди» у бабы Яг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Золотым яблочк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. Из какой сказки выражение: «Как аукнулось, так и откликнулось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Лиса и Журавл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. Кто выручил из беды Петушка в русской народной сказке «Кот, Петух и Лиса»?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Ко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. Что держала в клюве Ворона, в басне «Ворона и Лиси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Сы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7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5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3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2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1. Сказка «Колосок», где герои Круть и Верть, русская или украинска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Украинск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2. Чем ловил Волк рыбу в сказке «Лисичка-сестричка и серый Волк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Хвост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3. В кого превратились 11 братьев-принцев из сказки Г.Х. Андерсе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В лебед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4. Какое волшебное средство было у Урфина Джюс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Живительный порошо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5. На чем летела на юг лягушк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На прутике, который держали ут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6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5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4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3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26. Кто из литературных героев был другом маркиза де Карабаса из сказки Ш. Перро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(Кот в сапогах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27. Кто из литературных героев был обманут в стране дураков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(Буратин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28. Кто такой дядя Федор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(Мальчик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29. Черепаха, подарившая Буратино золотой ключик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(Черепаха Тортил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30. Героя какой сказки всё время хотели съесть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(Колобок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31.В каком городе жил Незнайк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(Цветочном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0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9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7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5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4" dur="5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3" dur="500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9640" y="765000"/>
            <a:ext cx="820908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Всем удачи! До новых встреч!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8360" y="3213000"/>
            <a:ext cx="4427640" cy="3100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940360" y="3213000"/>
            <a:ext cx="269388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95280" y="0"/>
            <a:ext cx="820908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495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Вопросы к команде 1: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43280" y="2781360"/>
            <a:ext cx="3154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в сказках лиса обычно называла волка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(ку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Жилище Бабы Яги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(Избушка на курьих ножк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Второе название скатерти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(Самобран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Кто из обитателей болот стал женой царевич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(Лягуш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Аппарат, на котором Баба Яга совершает полет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(Ступ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Что потеряла Золушка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(Хрустальную туфельк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. Кого маленькая разбойница дала в помощь Герд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Олен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 Что попало Каю в глаз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Осколок зерка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. Какие цветы собирала падчерица в сказке «Двенадцать месяцев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Подснежни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. Кукла из театра Карабаса Барабас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Мальви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1. Какой волшебный предмет был у Аладдин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Лампа с джин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39640" y="0"/>
            <a:ext cx="820908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2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Times New Roman"/>
              </a:rPr>
              <a:t>Вопросы к команде 2: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Times New Roman"/>
              <a:ea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76720" y="3141720"/>
            <a:ext cx="275256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. Художник из цветочного город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Тюбик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2. Медведь, обучающий Маугли Закону джунглей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Бал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3. Веселый человечек-луковка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Чиполли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4. Лиса — спутница кота Базилио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Али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5. Мальчик, у которого самый лучший в мире друг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Малыш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6. Прозвище дяди Степы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Каланч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640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. Герой русской народной сказки, путешествующий на печ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Ем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 Содержимое Страшил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Соло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. Крокодил, друг Чебурашк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Ге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. Сколько желаний старика исполнила золотая рыбк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Тр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1. На чём совершили необыкновенное путешествие вокруг света капит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рунгель, Лом и Фукс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На яхте Бе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7:04:19Z</dcterms:created>
  <dc:creator>Яна</dc:creator>
  <dc:description/>
  <dc:language>en-US</dc:language>
  <cp:lastModifiedBy>Света</cp:lastModifiedBy>
  <dcterms:modified xsi:type="dcterms:W3CDTF">2009-05-05T19:23:38Z</dcterms:modified>
  <cp:revision>10</cp:revision>
  <dc:subject/>
  <dc:title>Слайд 1</dc:title>
</cp:coreProperties>
</file>