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EC0C-98FB-4C3B-93C8-3AC4F2B60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13F4-85B8-4342-97BB-446DC69C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9315-5315-4E17-B0F3-41E71F483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4723-5615-4DD5-B832-DDAC2153D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C25D-BBAF-4083-826C-D6939982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62BE-9A80-4BD9-8C69-4031B117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6438-C5EF-448D-B4B6-0D7B0B7D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9339-CAEF-4D3B-9900-BA73E4F5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8831-44F8-4B65-BAF5-B547421A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8220-3CD5-45E9-9CD1-56DDECF8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E07B-4A3F-4D8B-8411-82B94012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8909-4910-4D99-96DB-57B3EB85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45A1-7C73-42D9-B26F-BA7FE43FF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audio" Target="file:///tmp/home/.config/libreoffice/4/user/gallery/~PP1132.WAV" TargetMode="External"/><Relationship Id="rId4" Type="http://schemas.microsoft.com/office/2007/relationships/media" Target="file:///tmp/home/.config/libreoffice/4/user/gallery/~PP1132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audio" Target="file:///tmp/home/.config/libreoffice/4/user/gallery/~PP1510.WAV" TargetMode="External"/><Relationship Id="rId4" Type="http://schemas.microsoft.com/office/2007/relationships/media" Target="file:///tmp/home/.config/libreoffice/4/user/gallery/~PP1510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audio" Target="file:///tmp/home/.config/libreoffice/4/user/gallery/~PP1488.WAV" TargetMode="External"/><Relationship Id="rId4" Type="http://schemas.microsoft.com/office/2007/relationships/media" Target="file:///tmp/home/.config/libreoffice/4/user/gallery/~PP1488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audio" Target="file:///tmp/home/.config/libreoffice/4/user/gallery/~PP1633.WAV" TargetMode="External"/><Relationship Id="rId4" Type="http://schemas.microsoft.com/office/2007/relationships/media" Target="file:///tmp/home/.config/libreoffice/4/user/gallery/~PP1633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audio" Target="file:///tmp/home/.config/libreoffice/4/user/gallery/~PP1972.WAV" TargetMode="External"/><Relationship Id="rId4" Type="http://schemas.microsoft.com/office/2007/relationships/media" Target="file:///tmp/home/.config/libreoffice/4/user/gallery/~PP1972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audio" Target="file:///tmp/home/.config/libreoffice/4/user/gallery/~PP1971.WAV" TargetMode="External"/><Relationship Id="rId4" Type="http://schemas.microsoft.com/office/2007/relationships/media" Target="file:///tmp/home/.config/libreoffice/4/user/gallery/~PP1971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audio" Target="file:///tmp/home/.config/libreoffice/4/user/gallery/~PP2015.WAV" TargetMode="External"/><Relationship Id="rId4" Type="http://schemas.microsoft.com/office/2007/relationships/media" Target="file:///tmp/home/.config/libreoffice/4/user/gallery/~PP2015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audio" Target="file:///tmp/home/.config/libreoffice/4/user/gallery/~PP2884.WAV" TargetMode="External"/><Relationship Id="rId4" Type="http://schemas.microsoft.com/office/2007/relationships/media" Target="file:///tmp/home/.config/libreoffice/4/user/gallery/~PP2884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audio" Target="file:///tmp/home/.config/libreoffice/4/user/gallery/~PP2948.WAV" TargetMode="External"/><Relationship Id="rId4" Type="http://schemas.microsoft.com/office/2007/relationships/media" Target="file:///tmp/home/.config/libreoffice/4/user/gallery/~PP2948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audio" Target="file:///tmp/home/.config/libreoffice/4/user/gallery/~PP3026.WAV" TargetMode="External"/><Relationship Id="rId4" Type="http://schemas.microsoft.com/office/2007/relationships/media" Target="file:///tmp/home/.config/libreoffice/4/user/gallery/~PP3026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file:///tmp/home/.config/libreoffice/4/user/gallery/~PP775.WAV" TargetMode="External"/><Relationship Id="rId4" Type="http://schemas.microsoft.com/office/2007/relationships/media" Target="file:///tmp/home/.config/libreoffice/4/user/gallery/~PP775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audio" Target="file:///tmp/home/.config/libreoffice/4/user/gallery/~PP3061.WAV" TargetMode="External"/><Relationship Id="rId4" Type="http://schemas.microsoft.com/office/2007/relationships/media" Target="file:///tmp/home/.config/libreoffice/4/user/gallery/~PP3061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audio" Target="file:///tmp/home/.config/libreoffice/4/user/gallery/~PP3046.WAV" TargetMode="External"/><Relationship Id="rId4" Type="http://schemas.microsoft.com/office/2007/relationships/media" Target="file:///tmp/home/.config/libreoffice/4/user/gallery/~PP3046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audio" Target="file:///tmp/home/.config/libreoffice/4/user/gallery/~PP3260.WAV" TargetMode="External"/><Relationship Id="rId4" Type="http://schemas.microsoft.com/office/2007/relationships/media" Target="file:///tmp/home/.config/libreoffice/4/user/gallery/~PP3260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audio" Target="file:///tmp/home/.config/libreoffice/4/user/gallery/~PP3392.WAV" TargetMode="External"/><Relationship Id="rId4" Type="http://schemas.microsoft.com/office/2007/relationships/media" Target="file:///tmp/home/.config/libreoffice/4/user/gallery/~PP3392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audio" Target="file:///tmp/home/.config/libreoffice/4/user/gallery/~PP3272.WAV" TargetMode="External"/><Relationship Id="rId4" Type="http://schemas.microsoft.com/office/2007/relationships/media" Target="file:///tmp/home/.config/libreoffice/4/user/gallery/~PP3272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audio" Target="file:///tmp/home/.config/libreoffice/4/user/gallery/~PP3626.WAV" TargetMode="External"/><Relationship Id="rId4" Type="http://schemas.microsoft.com/office/2007/relationships/media" Target="file:///tmp/home/.config/libreoffice/4/user/gallery/~PP3626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audio" Target="file:///tmp/home/.config/libreoffice/4/user/gallery/~PP3839.WAV" TargetMode="External"/><Relationship Id="rId4" Type="http://schemas.microsoft.com/office/2007/relationships/media" Target="file:///tmp/home/.config/libreoffice/4/user/gallery/~PP3839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audio" Target="file:///tmp/home/.config/libreoffice/4/user/gallery/~PP4009.WAV" TargetMode="External"/><Relationship Id="rId4" Type="http://schemas.microsoft.com/office/2007/relationships/media" Target="file:///tmp/home/.config/libreoffice/4/user/gallery/~PP4009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audio" Target="file:///tmp/home/.config/libreoffice/4/user/gallery/~PP3853.WAV" TargetMode="External"/><Relationship Id="rId4" Type="http://schemas.microsoft.com/office/2007/relationships/media" Target="file:///tmp/home/.config/libreoffice/4/user/gallery/~PP3853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audio" Target="file:///tmp/home/.config/libreoffice/4/user/gallery/~PP4002.WAV" TargetMode="External"/><Relationship Id="rId4" Type="http://schemas.microsoft.com/office/2007/relationships/media" Target="file:///tmp/home/.config/libreoffice/4/user/gallery/~PP4002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audio" Target="file:///tmp/home/.config/libreoffice/4/user/gallery/~PP748.WAV" TargetMode="External"/><Relationship Id="rId4" Type="http://schemas.microsoft.com/office/2007/relationships/media" Target="file:///tmp/home/.config/libreoffice/4/user/gallery/~PP748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audio" Target="file:///tmp/home/.config/libreoffice/4/user/gallery/~PP236.WAV" TargetMode="External"/><Relationship Id="rId4" Type="http://schemas.microsoft.com/office/2007/relationships/media" Target="file:///tmp/home/.config/libreoffice/4/user/gallery/~PP236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audio" Target="file:///tmp/home/.config/libreoffice/4/user/gallery/~PP444.WAV" TargetMode="External"/><Relationship Id="rId4" Type="http://schemas.microsoft.com/office/2007/relationships/media" Target="file:///tmp/home/.config/libreoffice/4/user/gallery/~PP444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audio" Target="file:///tmp/home/.config/libreoffice/4/user/gallery/~PP597.WAV" TargetMode="External"/><Relationship Id="rId4" Type="http://schemas.microsoft.com/office/2007/relationships/media" Target="file:///tmp/home/.config/libreoffice/4/user/gallery/~PP597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audio" Target="file:///tmp/home/.config/libreoffice/4/user/gallery/~PP611.WAV" TargetMode="External"/><Relationship Id="rId4" Type="http://schemas.microsoft.com/office/2007/relationships/media" Target="file:///tmp/home/.config/libreoffice/4/user/gallery/~PP611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audio" Target="file:///tmp/home/.config/libreoffice/4/user/gallery/~PP770.WAV" TargetMode="External"/><Relationship Id="rId4" Type="http://schemas.microsoft.com/office/2007/relationships/media" Target="file:///tmp/home/.config/libreoffice/4/user/gallery/~PP770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audio" Target="file:///tmp/home/.config/libreoffice/4/user/gallery/~PP908.WAV" TargetMode="External"/><Relationship Id="rId4" Type="http://schemas.microsoft.com/office/2007/relationships/media" Target="file:///tmp/home/.config/libreoffice/4/user/gallery/~PP908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audio" Target="file:///tmp/home/.config/libreoffice/4/user/gallery/~PP778.WAV" TargetMode="External"/><Relationship Id="rId4" Type="http://schemas.microsoft.com/office/2007/relationships/media" Target="file:///tmp/home/.config/libreoffice/4/user/gallery/~PP778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audio" Target="file:///tmp/home/.config/libreoffice/4/user/gallery/~PP767.WAV" TargetMode="External"/><Relationship Id="rId4" Type="http://schemas.microsoft.com/office/2007/relationships/media" Target="file:///tmp/home/.config/libreoffice/4/user/gallery/~PP767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422520" y="2881440"/>
          <a:ext cx="2297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2520" y="2881440"/>
                    <a:ext cx="2297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408480" y="2881440"/>
          <a:ext cx="232884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2881440"/>
                    <a:ext cx="23288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408480" y="2881440"/>
          <a:ext cx="232884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2881440"/>
                    <a:ext cx="23288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3424320" y="2881440"/>
          <a:ext cx="229392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4320" y="2881440"/>
                    <a:ext cx="229392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395520" y="2881440"/>
          <a:ext cx="2351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2881440"/>
                    <a:ext cx="2351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406680" y="2881440"/>
          <a:ext cx="233208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6680" y="2881440"/>
                    <a:ext cx="233208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3408480" y="2881440"/>
          <a:ext cx="232884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2881440"/>
                    <a:ext cx="23288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97320" y="2881440"/>
          <a:ext cx="2351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7320" y="2881440"/>
                    <a:ext cx="2351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3395520" y="2881440"/>
          <a:ext cx="2351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2881440"/>
                    <a:ext cx="2351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3386160" y="2881440"/>
          <a:ext cx="237024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6160" y="2881440"/>
                    <a:ext cx="23702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395520" y="2881440"/>
          <a:ext cx="23529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2881440"/>
                    <a:ext cx="23529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395520" y="2881440"/>
          <a:ext cx="2351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2881440"/>
                    <a:ext cx="2351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3408480" y="2881440"/>
          <a:ext cx="232884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2881440"/>
                    <a:ext cx="23288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406680" y="2881440"/>
          <a:ext cx="233208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6680" y="2881440"/>
                    <a:ext cx="233208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3378240" y="2881440"/>
          <a:ext cx="238608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78240" y="2881440"/>
                    <a:ext cx="238608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3397320" y="2881440"/>
          <a:ext cx="23479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7320" y="2881440"/>
                    <a:ext cx="23479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397320" y="2881440"/>
          <a:ext cx="23479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7320" y="2881440"/>
                    <a:ext cx="23479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3395520" y="2881440"/>
          <a:ext cx="2351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2881440"/>
                    <a:ext cx="2351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3397320" y="2881440"/>
          <a:ext cx="23479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7320" y="2881440"/>
                    <a:ext cx="23479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3386160" y="2881440"/>
          <a:ext cx="237024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6160" y="2881440"/>
                    <a:ext cx="23702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3432240" y="2881440"/>
          <a:ext cx="227952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2240" y="2881440"/>
                    <a:ext cx="227952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3422520" y="2881440"/>
          <a:ext cx="23004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2520" y="2881440"/>
                    <a:ext cx="23004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3424320" y="2881440"/>
          <a:ext cx="229392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4320" y="2881440"/>
                    <a:ext cx="229392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3387600" y="2881440"/>
          <a:ext cx="23670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7600" y="2881440"/>
                    <a:ext cx="23670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3378240" y="2881440"/>
          <a:ext cx="238428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78240" y="2881440"/>
                    <a:ext cx="238428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3378240" y="2881440"/>
          <a:ext cx="238428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78240" y="2881440"/>
                    <a:ext cx="238428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3422520" y="2881440"/>
          <a:ext cx="2297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2520" y="2881440"/>
                    <a:ext cx="2297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3387600" y="2881440"/>
          <a:ext cx="23670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7600" y="2881440"/>
                    <a:ext cx="23670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3395520" y="2881440"/>
          <a:ext cx="2351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2881440"/>
                    <a:ext cx="2351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3406680" y="2881440"/>
          <a:ext cx="233208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6680" y="2881440"/>
                    <a:ext cx="233208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406680" y="2881440"/>
          <a:ext cx="233208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6680" y="2881440"/>
                    <a:ext cx="233208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3432240" y="2881440"/>
          <a:ext cx="227808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2240" y="2881440"/>
                    <a:ext cx="227808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3422520" y="2881440"/>
          <a:ext cx="2297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2520" y="2881440"/>
                    <a:ext cx="2297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408480" y="2881440"/>
          <a:ext cx="232884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2881440"/>
                    <a:ext cx="23288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422520" y="2881440"/>
          <a:ext cx="2297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2520" y="2881440"/>
                    <a:ext cx="2297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3T19:20:40Z</dcterms:created>
  <dc:creator>Hadlock</dc:creator>
  <dc:description/>
  <dc:language>en-US</dc:language>
  <cp:lastModifiedBy>Hadlock</cp:lastModifiedBy>
  <dcterms:modified xsi:type="dcterms:W3CDTF">2001-08-13T19:21:02Z</dcterms:modified>
  <cp:revision>1</cp:revision>
  <dc:subject/>
  <dc:title>PowerPoint Presentation</dc:title>
</cp:coreProperties>
</file>