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09C-6BFB-468E-AFCD-EF186A08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5D7-808F-4DF7-ADBB-22C22B2B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B8A-CD9B-46CE-B6BA-DFDC633E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83F-714D-4274-ACD6-A5FA0935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7D3-E225-43BC-AFC5-16E53017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70D-66EE-4EEA-AE13-B49F4C2D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305-07E8-4B1E-A0A6-5D849283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C72-8B61-45EC-BDBC-8298054C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F69-7FB0-48F8-A08C-2140381C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D0C-80B8-4148-99F3-59E4D4F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99E-75BA-491A-A567-588F765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0C3-5F71-47D1-8529-FC3BC1A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5E02-AEBF-4120-99BC-85E4D46EC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file:///tmp/home/.config/libreoffice/4/user/gallery/~PP1390.WAV" TargetMode="External"/><Relationship Id="rId4" Type="http://schemas.microsoft.com/office/2007/relationships/media" Target="file:///tmp/home/.config/libreoffice/4/user/gallery/~PP139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file:///tmp/home/.config/libreoffice/4/user/gallery/~PP1344.WAV" TargetMode="External"/><Relationship Id="rId4" Type="http://schemas.microsoft.com/office/2007/relationships/media" Target="file:///tmp/home/.config/libreoffice/4/user/gallery/~PP134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file:///tmp/home/.config/libreoffice/4/user/gallery/~PP1353.WAV" TargetMode="External"/><Relationship Id="rId4" Type="http://schemas.microsoft.com/office/2007/relationships/media" Target="file:///tmp/home/.config/libreoffice/4/user/gallery/~PP135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file:///tmp/home/.config/libreoffice/4/user/gallery/~PP1232.WAV" TargetMode="External"/><Relationship Id="rId4" Type="http://schemas.microsoft.com/office/2007/relationships/media" Target="file:///tmp/home/.config/libreoffice/4/user/gallery/~PP123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file:///tmp/home/.config/libreoffice/4/user/gallery/~PP1651.WAV" TargetMode="External"/><Relationship Id="rId4" Type="http://schemas.microsoft.com/office/2007/relationships/media" Target="file:///tmp/home/.config/libreoffice/4/user/gallery/~PP165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file:///tmp/home/.config/libreoffice/4/user/gallery/~PP1609.WAV" TargetMode="External"/><Relationship Id="rId4" Type="http://schemas.microsoft.com/office/2007/relationships/media" Target="file:///tmp/home/.config/libreoffice/4/user/gallery/~PP160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file:///tmp/home/.config/libreoffice/4/user/gallery/~PP1968.WAV" TargetMode="External"/><Relationship Id="rId4" Type="http://schemas.microsoft.com/office/2007/relationships/media" Target="file:///tmp/home/.config/libreoffice/4/user/gallery/~PP196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file:///tmp/home/.config/libreoffice/4/user/gallery/~PP2028.WAV" TargetMode="External"/><Relationship Id="rId4" Type="http://schemas.microsoft.com/office/2007/relationships/media" Target="file:///tmp/home/.config/libreoffice/4/user/gallery/~PP202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file:///tmp/home/.config/libreoffice/4/user/gallery/~PP2012.WAV" TargetMode="External"/><Relationship Id="rId4" Type="http://schemas.microsoft.com/office/2007/relationships/media" Target="file:///tmp/home/.config/libreoffice/4/user/gallery/~PP201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file:///tmp/home/.config/libreoffice/4/user/gallery/~PP2111.WAV" TargetMode="External"/><Relationship Id="rId4" Type="http://schemas.microsoft.com/office/2007/relationships/media" Target="file:///tmp/home/.config/libreoffice/4/user/gallery/~PP211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~PP648.WAV" TargetMode="External"/><Relationship Id="rId4" Type="http://schemas.microsoft.com/office/2007/relationships/media" Target="file:///tmp/home/.config/libreoffice/4/user/gallery/~PP6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file:///tmp/home/.config/libreoffice/4/user/gallery/~PP2115.WAV" TargetMode="External"/><Relationship Id="rId4" Type="http://schemas.microsoft.com/office/2007/relationships/media" Target="file:///tmp/home/.config/libreoffice/4/user/gallery/~PP211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file:///tmp/home/.config/libreoffice/4/user/gallery/~PP1925.WAV" TargetMode="External"/><Relationship Id="rId4" Type="http://schemas.microsoft.com/office/2007/relationships/media" Target="file:///tmp/home/.config/libreoffice/4/user/gallery/~PP192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file:///tmp/home/.config/libreoffice/4/user/gallery/~PP1898.WAV" TargetMode="External"/><Relationship Id="rId4" Type="http://schemas.microsoft.com/office/2007/relationships/media" Target="file:///tmp/home/.config/libreoffice/4/user/gallery/~PP189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audio" Target="file:///tmp/home/.config/libreoffice/4/user/gallery/~PP2022.WAV" TargetMode="External"/><Relationship Id="rId4" Type="http://schemas.microsoft.com/office/2007/relationships/media" Target="file:///tmp/home/.config/libreoffice/4/user/gallery/~PP202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audio" Target="file:///tmp/home/.config/libreoffice/4/user/gallery/~PP1981.WAV" TargetMode="External"/><Relationship Id="rId4" Type="http://schemas.microsoft.com/office/2007/relationships/media" Target="file:///tmp/home/.config/libreoffice/4/user/gallery/~PP198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audio" Target="file:///tmp/home/.config/libreoffice/4/user/gallery/~PP1780.WAV" TargetMode="External"/><Relationship Id="rId4" Type="http://schemas.microsoft.com/office/2007/relationships/media" Target="file:///tmp/home/.config/libreoffice/4/user/gallery/~PP178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audio" Target="file:///tmp/home/.config/libreoffice/4/user/gallery/~PP1684.WAV" TargetMode="External"/><Relationship Id="rId4" Type="http://schemas.microsoft.com/office/2007/relationships/media" Target="file:///tmp/home/.config/libreoffice/4/user/gallery/~PP168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audio" Target="file:///tmp/home/.config/libreoffice/4/user/gallery/~PP1893.WAV" TargetMode="External"/><Relationship Id="rId4" Type="http://schemas.microsoft.com/office/2007/relationships/media" Target="file:///tmp/home/.config/libreoffice/4/user/gallery/~PP189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file:///tmp/home/.config/libreoffice/4/user/gallery/~PP1848.WAV" TargetMode="External"/><Relationship Id="rId4" Type="http://schemas.microsoft.com/office/2007/relationships/media" Target="file:///tmp/home/.config/libreoffice/4/user/gallery/~PP18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file:///tmp/home/.config/libreoffice/4/user/gallery/~PP2316.WAV" TargetMode="External"/><Relationship Id="rId4" Type="http://schemas.microsoft.com/office/2007/relationships/media" Target="file:///tmp/home/.config/libreoffice/4/user/gallery/~PP231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file:///tmp/home/.config/libreoffice/4/user/gallery/~PP817.WAV" TargetMode="External"/><Relationship Id="rId4" Type="http://schemas.microsoft.com/office/2007/relationships/media" Target="file:///tmp/home/.config/libreoffice/4/user/gallery/~PP817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audio" Target="file:///tmp/home/.config/libreoffice/4/user/gallery/~PP2344.WAV" TargetMode="External"/><Relationship Id="rId4" Type="http://schemas.microsoft.com/office/2007/relationships/media" Target="file:///tmp/home/.config/libreoffice/4/user/gallery/~PP234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audio" Target="file:///tmp/home/.config/libreoffice/4/user/gallery/~PP2264.WAV" TargetMode="External"/><Relationship Id="rId4" Type="http://schemas.microsoft.com/office/2007/relationships/media" Target="file:///tmp/home/.config/libreoffice/4/user/gallery/~PP226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audio" Target="file:///tmp/home/.config/libreoffice/4/user/gallery/~PP2653.WAV" TargetMode="External"/><Relationship Id="rId4" Type="http://schemas.microsoft.com/office/2007/relationships/media" Target="file:///tmp/home/.config/libreoffice/4/user/gallery/~PP265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audio" Target="file:///tmp/home/.config/libreoffice/4/user/gallery/~PP2561.WAV" TargetMode="External"/><Relationship Id="rId4" Type="http://schemas.microsoft.com/office/2007/relationships/media" Target="file:///tmp/home/.config/libreoffice/4/user/gallery/~PP256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audio" Target="file:///tmp/home/.config/libreoffice/4/user/gallery/~PP2400.WAV" TargetMode="External"/><Relationship Id="rId4" Type="http://schemas.microsoft.com/office/2007/relationships/media" Target="file:///tmp/home/.config/libreoffice/4/user/gallery/~PP240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audio" Target="file:///tmp/home/.config/libreoffice/4/user/gallery/~PP2240.WAV" TargetMode="External"/><Relationship Id="rId4" Type="http://schemas.microsoft.com/office/2007/relationships/media" Target="file:///tmp/home/.config/libreoffice/4/user/gallery/~PP224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audio" Target="file:///tmp/home/.config/libreoffice/4/user/gallery/~PP2129.WAV" TargetMode="External"/><Relationship Id="rId4" Type="http://schemas.microsoft.com/office/2007/relationships/media" Target="file:///tmp/home/.config/libreoffice/4/user/gallery/~PP212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audio" Target="file:///tmp/home/.config/libreoffice/4/user/gallery/~PP1879.WAV" TargetMode="External"/><Relationship Id="rId4" Type="http://schemas.microsoft.com/office/2007/relationships/media" Target="file:///tmp/home/.config/libreoffice/4/user/gallery/~PP187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audio" Target="file:///tmp/home/.config/libreoffice/4/user/gallery/~PP1537.WAV" TargetMode="External"/><Relationship Id="rId4" Type="http://schemas.microsoft.com/office/2007/relationships/media" Target="file:///tmp/home/.config/libreoffice/4/user/gallery/~PP1537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audio" Target="file:///tmp/home/.config/libreoffice/4/user/gallery/~PP1340.WAV" TargetMode="External"/><Relationship Id="rId4" Type="http://schemas.microsoft.com/office/2007/relationships/media" Target="file:///tmp/home/.config/libreoffice/4/user/gallery/~PP134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file:///tmp/home/.config/libreoffice/4/user/gallery/~PP736.WAV" TargetMode="External"/><Relationship Id="rId4" Type="http://schemas.microsoft.com/office/2007/relationships/media" Target="file:///tmp/home/.config/libreoffice/4/user/gallery/~PP73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audio" Target="file:///tmp/home/.config/libreoffice/4/user/gallery/~PP1205.WAV" TargetMode="External"/><Relationship Id="rId4" Type="http://schemas.microsoft.com/office/2007/relationships/media" Target="file:///tmp/home/.config/libreoffice/4/user/gallery/~PP120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audio" Target="file:///tmp/home/.config/libreoffice/4/user/gallery/~PP694.WAV" TargetMode="External"/><Relationship Id="rId4" Type="http://schemas.microsoft.com/office/2007/relationships/media" Target="file:///tmp/home/.config/libreoffice/4/user/gallery/~PP69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604.WAV" TargetMode="External"/><Relationship Id="rId4" Type="http://schemas.microsoft.com/office/2007/relationships/media" Target="file:///tmp/home/.config/libreoffice/4/user/gallery/~PP60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~PP534.WAV" TargetMode="External"/><Relationship Id="rId4" Type="http://schemas.microsoft.com/office/2007/relationships/media" Target="file:///tmp/home/.config/libreoffice/4/user/gallery/~PP53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file:///tmp/home/.config/libreoffice/4/user/gallery/~PP608.WAV" TargetMode="External"/><Relationship Id="rId4" Type="http://schemas.microsoft.com/office/2007/relationships/media" Target="file:///tmp/home/.config/libreoffice/4/user/gallery/~PP60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file:///tmp/home/.config/libreoffice/4/user/gallery/~PP762.WAV" TargetMode="External"/><Relationship Id="rId4" Type="http://schemas.microsoft.com/office/2007/relationships/media" Target="file:///tmp/home/.config/libreoffice/4/user/gallery/~PP76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file:///tmp/home/.config/libreoffice/4/user/gallery/~PP1006.WAV" TargetMode="External"/><Relationship Id="rId4" Type="http://schemas.microsoft.com/office/2007/relationships/media" Target="file:///tmp/home/.config/libreoffice/4/user/gallery/~PP100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424320" y="2881440"/>
          <a:ext cx="22953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5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389400" y="2881440"/>
          <a:ext cx="23652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2881440"/>
                    <a:ext cx="2365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387600" y="2879640"/>
          <a:ext cx="236700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79640"/>
                    <a:ext cx="23670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359160" y="2881440"/>
          <a:ext cx="24224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9160" y="2881440"/>
                    <a:ext cx="24224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424320" y="2881440"/>
          <a:ext cx="22939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39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395520" y="2881440"/>
          <a:ext cx="23529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29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387600" y="2879640"/>
          <a:ext cx="236700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79640"/>
                    <a:ext cx="23670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3432240" y="2881440"/>
          <a:ext cx="22795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2881440"/>
                    <a:ext cx="22795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3432240" y="2881440"/>
          <a:ext cx="2278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2881440"/>
                    <a:ext cx="2278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440160" y="2881440"/>
          <a:ext cx="22636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2881440"/>
                    <a:ext cx="22636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9:23:30Z</dcterms:created>
  <dc:creator>Hadlock</dc:creator>
  <dc:description/>
  <dc:language>en-US</dc:language>
  <cp:lastModifiedBy>Hadlock</cp:lastModifiedBy>
  <dcterms:modified xsi:type="dcterms:W3CDTF">2001-08-13T19:23:36Z</dcterms:modified>
  <cp:revision>1</cp:revision>
  <dc:subject/>
  <dc:title>PowerPoint Presentation</dc:title>
</cp:coreProperties>
</file>