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4AB-5888-4AFD-9965-B071E1A1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1B7-C123-4767-997B-1FE4A220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9B1-285F-4CA4-A607-83C1ECC3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730-38E2-48E5-946C-41A77771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F62-BB90-4780-91C2-7DD4DEB8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45E-64C8-4952-A7B7-EC00AB94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558-AD8C-40E2-8798-7ADA35A7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3A4-DB03-4D7C-8DDF-504EA01D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CE6-F531-400D-97DD-93B629BF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DA8-DD7B-4D19-AA98-E9828089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461-4F05-4C37-A8B9-3028EAD9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680-E0DB-46F0-8B6F-91169034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91A3-CF93-4B15-9338-ACF44C4DC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file:///tmp/home/.config/libreoffice/4/user/gallery/~PP1390.WAV" TargetMode="External"/><Relationship Id="rId4" Type="http://schemas.microsoft.com/office/2007/relationships/media" Target="file:///tmp/home/.config/libreoffice/4/user/gallery/~PP139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file:///tmp/home/.config/libreoffice/4/user/gallery/~PP1344.WAV" TargetMode="External"/><Relationship Id="rId4" Type="http://schemas.microsoft.com/office/2007/relationships/media" Target="file:///tmp/home/.config/libreoffice/4/user/gallery/~PP134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file:///tmp/home/.config/libreoffice/4/user/gallery/~PP1353.WAV" TargetMode="External"/><Relationship Id="rId4" Type="http://schemas.microsoft.com/office/2007/relationships/media" Target="file:///tmp/home/.config/libreoffice/4/user/gallery/~PP135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file:///tmp/home/.config/libreoffice/4/user/gallery/~PP1232.WAV" TargetMode="External"/><Relationship Id="rId4" Type="http://schemas.microsoft.com/office/2007/relationships/media" Target="file:///tmp/home/.config/libreoffice/4/user/gallery/~PP123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file:///tmp/home/.config/libreoffice/4/user/gallery/~PP1651.WAV" TargetMode="External"/><Relationship Id="rId4" Type="http://schemas.microsoft.com/office/2007/relationships/media" Target="file:///tmp/home/.config/libreoffice/4/user/gallery/~PP165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file:///tmp/home/.config/libreoffice/4/user/gallery/~PP1609.WAV" TargetMode="External"/><Relationship Id="rId4" Type="http://schemas.microsoft.com/office/2007/relationships/media" Target="file:///tmp/home/.config/libreoffice/4/user/gallery/~PP160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file:///tmp/home/.config/libreoffice/4/user/gallery/~PP1968.WAV" TargetMode="External"/><Relationship Id="rId4" Type="http://schemas.microsoft.com/office/2007/relationships/media" Target="file:///tmp/home/.config/libreoffice/4/user/gallery/~PP196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file:///tmp/home/.config/libreoffice/4/user/gallery/~PP2028.WAV" TargetMode="External"/><Relationship Id="rId4" Type="http://schemas.microsoft.com/office/2007/relationships/media" Target="file:///tmp/home/.config/libreoffice/4/user/gallery/~PP202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file:///tmp/home/.config/libreoffice/4/user/gallery/~PP2012.WAV" TargetMode="External"/><Relationship Id="rId4" Type="http://schemas.microsoft.com/office/2007/relationships/media" Target="file:///tmp/home/.config/libreoffice/4/user/gallery/~PP201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audio" Target="file:///tmp/home/.config/libreoffice/4/user/gallery/~PP2111.WAV" TargetMode="External"/><Relationship Id="rId4" Type="http://schemas.microsoft.com/office/2007/relationships/media" Target="file:///tmp/home/.config/libreoffice/4/user/gallery/~PP211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file:///tmp/home/.config/libreoffice/4/user/gallery/~PP648.WAV" TargetMode="External"/><Relationship Id="rId4" Type="http://schemas.microsoft.com/office/2007/relationships/media" Target="file:///tmp/home/.config/libreoffice/4/user/gallery/~PP64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audio" Target="file:///tmp/home/.config/libreoffice/4/user/gallery/~PP2115.WAV" TargetMode="External"/><Relationship Id="rId4" Type="http://schemas.microsoft.com/office/2007/relationships/media" Target="file:///tmp/home/.config/libreoffice/4/user/gallery/~PP211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file:///tmp/home/.config/libreoffice/4/user/gallery/~PP1925.WAV" TargetMode="External"/><Relationship Id="rId4" Type="http://schemas.microsoft.com/office/2007/relationships/media" Target="file:///tmp/home/.config/libreoffice/4/user/gallery/~PP192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file:///tmp/home/.config/libreoffice/4/user/gallery/~PP1898.WAV" TargetMode="External"/><Relationship Id="rId4" Type="http://schemas.microsoft.com/office/2007/relationships/media" Target="file:///tmp/home/.config/libreoffice/4/user/gallery/~PP189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audio" Target="file:///tmp/home/.config/libreoffice/4/user/gallery/~PP2022.WAV" TargetMode="External"/><Relationship Id="rId4" Type="http://schemas.microsoft.com/office/2007/relationships/media" Target="file:///tmp/home/.config/libreoffice/4/user/gallery/~PP202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audio" Target="file:///tmp/home/.config/libreoffice/4/user/gallery/~PP1981.WAV" TargetMode="External"/><Relationship Id="rId4" Type="http://schemas.microsoft.com/office/2007/relationships/media" Target="file:///tmp/home/.config/libreoffice/4/user/gallery/~PP198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audio" Target="file:///tmp/home/.config/libreoffice/4/user/gallery/~PP1780.WAV" TargetMode="External"/><Relationship Id="rId4" Type="http://schemas.microsoft.com/office/2007/relationships/media" Target="file:///tmp/home/.config/libreoffice/4/user/gallery/~PP178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audio" Target="file:///tmp/home/.config/libreoffice/4/user/gallery/~PP1684.WAV" TargetMode="External"/><Relationship Id="rId4" Type="http://schemas.microsoft.com/office/2007/relationships/media" Target="file:///tmp/home/.config/libreoffice/4/user/gallery/~PP168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audio" Target="file:///tmp/home/.config/libreoffice/4/user/gallery/~PP1893.WAV" TargetMode="External"/><Relationship Id="rId4" Type="http://schemas.microsoft.com/office/2007/relationships/media" Target="file:///tmp/home/.config/libreoffice/4/user/gallery/~PP189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audio" Target="file:///tmp/home/.config/libreoffice/4/user/gallery/~PP1848.WAV" TargetMode="External"/><Relationship Id="rId4" Type="http://schemas.microsoft.com/office/2007/relationships/media" Target="file:///tmp/home/.config/libreoffice/4/user/gallery/~PP184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file:///tmp/home/.config/libreoffice/4/user/gallery/~PP2316.WAV" TargetMode="External"/><Relationship Id="rId4" Type="http://schemas.microsoft.com/office/2007/relationships/media" Target="file:///tmp/home/.config/libreoffice/4/user/gallery/~PP231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file:///tmp/home/.config/libreoffice/4/user/gallery/~PP817.WAV" TargetMode="External"/><Relationship Id="rId4" Type="http://schemas.microsoft.com/office/2007/relationships/media" Target="file:///tmp/home/.config/libreoffice/4/user/gallery/~PP817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audio" Target="file:///tmp/home/.config/libreoffice/4/user/gallery/~PP2344.WAV" TargetMode="External"/><Relationship Id="rId4" Type="http://schemas.microsoft.com/office/2007/relationships/media" Target="file:///tmp/home/.config/libreoffice/4/user/gallery/~PP234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audio" Target="file:///tmp/home/.config/libreoffice/4/user/gallery/~PP2264.WAV" TargetMode="External"/><Relationship Id="rId4" Type="http://schemas.microsoft.com/office/2007/relationships/media" Target="file:///tmp/home/.config/libreoffice/4/user/gallery/~PP226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audio" Target="file:///tmp/home/.config/libreoffice/4/user/gallery/~PP2653.WAV" TargetMode="External"/><Relationship Id="rId4" Type="http://schemas.microsoft.com/office/2007/relationships/media" Target="file:///tmp/home/.config/libreoffice/4/user/gallery/~PP265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audio" Target="file:///tmp/home/.config/libreoffice/4/user/gallery/~PP2561.WAV" TargetMode="External"/><Relationship Id="rId4" Type="http://schemas.microsoft.com/office/2007/relationships/media" Target="file:///tmp/home/.config/libreoffice/4/user/gallery/~PP256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audio" Target="file:///tmp/home/.config/libreoffice/4/user/gallery/~PP2400.WAV" TargetMode="External"/><Relationship Id="rId4" Type="http://schemas.microsoft.com/office/2007/relationships/media" Target="file:///tmp/home/.config/libreoffice/4/user/gallery/~PP240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audio" Target="file:///tmp/home/.config/libreoffice/4/user/gallery/~PP2240.WAV" TargetMode="External"/><Relationship Id="rId4" Type="http://schemas.microsoft.com/office/2007/relationships/media" Target="file:///tmp/home/.config/libreoffice/4/user/gallery/~PP224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audio" Target="file:///tmp/home/.config/libreoffice/4/user/gallery/~PP2129.WAV" TargetMode="External"/><Relationship Id="rId4" Type="http://schemas.microsoft.com/office/2007/relationships/media" Target="file:///tmp/home/.config/libreoffice/4/user/gallery/~PP212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audio" Target="file:///tmp/home/.config/libreoffice/4/user/gallery/~PP1879.WAV" TargetMode="External"/><Relationship Id="rId4" Type="http://schemas.microsoft.com/office/2007/relationships/media" Target="file:///tmp/home/.config/libreoffice/4/user/gallery/~PP187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audio" Target="file:///tmp/home/.config/libreoffice/4/user/gallery/~PP1537.WAV" TargetMode="External"/><Relationship Id="rId4" Type="http://schemas.microsoft.com/office/2007/relationships/media" Target="file:///tmp/home/.config/libreoffice/4/user/gallery/~PP1537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audio" Target="file:///tmp/home/.config/libreoffice/4/user/gallery/~PP1340.WAV" TargetMode="External"/><Relationship Id="rId4" Type="http://schemas.microsoft.com/office/2007/relationships/media" Target="file:///tmp/home/.config/libreoffice/4/user/gallery/~PP134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file:///tmp/home/.config/libreoffice/4/user/gallery/~PP736.WAV" TargetMode="External"/><Relationship Id="rId4" Type="http://schemas.microsoft.com/office/2007/relationships/media" Target="file:///tmp/home/.config/libreoffice/4/user/gallery/~PP73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audio" Target="file:///tmp/home/.config/libreoffice/4/user/gallery/~PP1205.WAV" TargetMode="External"/><Relationship Id="rId4" Type="http://schemas.microsoft.com/office/2007/relationships/media" Target="file:///tmp/home/.config/libreoffice/4/user/gallery/~PP120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audio" Target="file:///tmp/home/.config/libreoffice/4/user/gallery/~PP694.WAV" TargetMode="External"/><Relationship Id="rId4" Type="http://schemas.microsoft.com/office/2007/relationships/media" Target="file:///tmp/home/.config/libreoffice/4/user/gallery/~PP69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604.WAV" TargetMode="External"/><Relationship Id="rId4" Type="http://schemas.microsoft.com/office/2007/relationships/media" Target="file:///tmp/home/.config/libreoffice/4/user/gallery/~PP60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file:///tmp/home/.config/libreoffice/4/user/gallery/~PP534.WAV" TargetMode="External"/><Relationship Id="rId4" Type="http://schemas.microsoft.com/office/2007/relationships/media" Target="file:///tmp/home/.config/libreoffice/4/user/gallery/~PP53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file:///tmp/home/.config/libreoffice/4/user/gallery/~PP608.WAV" TargetMode="External"/><Relationship Id="rId4" Type="http://schemas.microsoft.com/office/2007/relationships/media" Target="file:///tmp/home/.config/libreoffice/4/user/gallery/~PP60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file:///tmp/home/.config/libreoffice/4/user/gallery/~PP762.WAV" TargetMode="External"/><Relationship Id="rId4" Type="http://schemas.microsoft.com/office/2007/relationships/media" Target="file:///tmp/home/.config/libreoffice/4/user/gallery/~PP76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file:///tmp/home/.config/libreoffice/4/user/gallery/~PP1006.WAV" TargetMode="External"/><Relationship Id="rId4" Type="http://schemas.microsoft.com/office/2007/relationships/media" Target="file:///tmp/home/.config/libreoffice/4/user/gallery/~PP100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424320" y="2881440"/>
          <a:ext cx="22953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4320" y="2881440"/>
                    <a:ext cx="22953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389400" y="2881440"/>
          <a:ext cx="23652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9400" y="2881440"/>
                    <a:ext cx="2365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387600" y="2879640"/>
          <a:ext cx="236700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7600" y="2879640"/>
                    <a:ext cx="236700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359160" y="2881440"/>
          <a:ext cx="24224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9160" y="2881440"/>
                    <a:ext cx="24224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386160" y="2881440"/>
          <a:ext cx="23702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81440"/>
                    <a:ext cx="23702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424320" y="2881440"/>
          <a:ext cx="229392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4320" y="2881440"/>
                    <a:ext cx="22939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395520" y="2881440"/>
          <a:ext cx="23529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29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3387600" y="2879640"/>
          <a:ext cx="236700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7600" y="2879640"/>
                    <a:ext cx="236700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386160" y="2881440"/>
          <a:ext cx="23702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81440"/>
                    <a:ext cx="23702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3432240" y="2881440"/>
          <a:ext cx="227952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2881440"/>
                    <a:ext cx="22795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422520" y="2881440"/>
          <a:ext cx="23004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3004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3386160" y="2881440"/>
          <a:ext cx="23702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81440"/>
                    <a:ext cx="23702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3432240" y="2881440"/>
          <a:ext cx="22780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2881440"/>
                    <a:ext cx="22780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3440160" y="2881440"/>
          <a:ext cx="22636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0160" y="2881440"/>
                    <a:ext cx="22636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9:23:30Z</dcterms:created>
  <dc:creator>Hadlock</dc:creator>
  <dc:description/>
  <dc:language>en-US</dc:language>
  <cp:lastModifiedBy>Hadlock</cp:lastModifiedBy>
  <dcterms:modified xsi:type="dcterms:W3CDTF">2001-08-13T19:23:36Z</dcterms:modified>
  <cp:revision>1</cp:revision>
  <dc:subject/>
  <dc:title>PowerPoint Presentation</dc:title>
</cp:coreProperties>
</file>