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1C3-0677-4839-81FC-F8E7AC86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23F-71AC-40B1-B05F-5FEE9567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577-1AE6-4290-8BF7-B2405412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6BC-B39D-4AAA-AD40-B2FB4319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8A0-1A3E-4401-8B3F-AAF0D0C4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010-D412-400C-AF54-BEFAD2FC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D1E-A417-4D0B-A9EC-307D7F5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488-258C-4543-95C0-86E61D80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DBA-BAD3-49FE-A52B-96856A03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214-7A43-4F24-8F5F-F095008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B42-17AC-4531-A1C8-0A01263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852-D11E-458D-AB93-699B603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FB40-46DA-4175-8C74-C936859A3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file:///tmp/home/.config/libreoffice/4/user/gallery/~PP1390.WAV" TargetMode="External"/><Relationship Id="rId4" Type="http://schemas.microsoft.com/office/2007/relationships/media" Target="file:///tmp/home/.config/libreoffice/4/user/gallery/~PP139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~PP1344.WAV" TargetMode="External"/><Relationship Id="rId4" Type="http://schemas.microsoft.com/office/2007/relationships/media" Target="file:///tmp/home/.config/libreoffice/4/user/gallery/~PP13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1353.WAV" TargetMode="External"/><Relationship Id="rId4" Type="http://schemas.microsoft.com/office/2007/relationships/media" Target="file:///tmp/home/.config/libreoffice/4/user/gallery/~PP13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file:///tmp/home/.config/libreoffice/4/user/gallery/~PP1232.WAV" TargetMode="External"/><Relationship Id="rId4" Type="http://schemas.microsoft.com/office/2007/relationships/media" Target="file:///tmp/home/.config/libreoffice/4/user/gallery/~PP123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file:///tmp/home/.config/libreoffice/4/user/gallery/~PP1651.WAV" TargetMode="External"/><Relationship Id="rId4" Type="http://schemas.microsoft.com/office/2007/relationships/media" Target="file:///tmp/home/.config/libreoffice/4/user/gallery/~PP165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1609.WAV" TargetMode="External"/><Relationship Id="rId4" Type="http://schemas.microsoft.com/office/2007/relationships/media" Target="file:///tmp/home/.config/libreoffice/4/user/gallery/~PP160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file:///tmp/home/.config/libreoffice/4/user/gallery/~PP1968.WAV" TargetMode="External"/><Relationship Id="rId4" Type="http://schemas.microsoft.com/office/2007/relationships/media" Target="file:///tmp/home/.config/libreoffice/4/user/gallery/~PP196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file:///tmp/home/.config/libreoffice/4/user/gallery/~PP2028.WAV" TargetMode="External"/><Relationship Id="rId4" Type="http://schemas.microsoft.com/office/2007/relationships/media" Target="file:///tmp/home/.config/libreoffice/4/user/gallery/~PP202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~PP2012.WAV" TargetMode="External"/><Relationship Id="rId4" Type="http://schemas.microsoft.com/office/2007/relationships/media" Target="file:///tmp/home/.config/libreoffice/4/user/gallery/~PP201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file:///tmp/home/.config/libreoffice/4/user/gallery/~PP2111.WAV" TargetMode="External"/><Relationship Id="rId4" Type="http://schemas.microsoft.com/office/2007/relationships/media" Target="file:///tmp/home/.config/libreoffice/4/user/gallery/~PP211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~PP648.WAV" TargetMode="External"/><Relationship Id="rId4" Type="http://schemas.microsoft.com/office/2007/relationships/media" Target="file:///tmp/home/.config/libreoffice/4/user/gallery/~PP6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file:///tmp/home/.config/libreoffice/4/user/gallery/~PP2115.WAV" TargetMode="External"/><Relationship Id="rId4" Type="http://schemas.microsoft.com/office/2007/relationships/media" Target="file:///tmp/home/.config/libreoffice/4/user/gallery/~PP211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file:///tmp/home/.config/libreoffice/4/user/gallery/~PP1925.WAV" TargetMode="External"/><Relationship Id="rId4" Type="http://schemas.microsoft.com/office/2007/relationships/media" Target="file:///tmp/home/.config/libreoffice/4/user/gallery/~PP192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file:///tmp/home/.config/libreoffice/4/user/gallery/~PP1898.WAV" TargetMode="External"/><Relationship Id="rId4" Type="http://schemas.microsoft.com/office/2007/relationships/media" Target="file:///tmp/home/.config/libreoffice/4/user/gallery/~PP189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file:///tmp/home/.config/libreoffice/4/user/gallery/~PP2022.WAV" TargetMode="External"/><Relationship Id="rId4" Type="http://schemas.microsoft.com/office/2007/relationships/media" Target="file:///tmp/home/.config/libreoffice/4/user/gallery/~PP202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audio" Target="file:///tmp/home/.config/libreoffice/4/user/gallery/~PP1981.WAV" TargetMode="External"/><Relationship Id="rId4" Type="http://schemas.microsoft.com/office/2007/relationships/media" Target="file:///tmp/home/.config/libreoffice/4/user/gallery/~PP198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audio" Target="file:///tmp/home/.config/libreoffice/4/user/gallery/~PP1780.WAV" TargetMode="External"/><Relationship Id="rId4" Type="http://schemas.microsoft.com/office/2007/relationships/media" Target="file:///tmp/home/.config/libreoffice/4/user/gallery/~PP178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audio" Target="file:///tmp/home/.config/libreoffice/4/user/gallery/~PP1684.WAV" TargetMode="External"/><Relationship Id="rId4" Type="http://schemas.microsoft.com/office/2007/relationships/media" Target="file:///tmp/home/.config/libreoffice/4/user/gallery/~PP168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audio" Target="file:///tmp/home/.config/libreoffice/4/user/gallery/~PP1893.WAV" TargetMode="External"/><Relationship Id="rId4" Type="http://schemas.microsoft.com/office/2007/relationships/media" Target="file:///tmp/home/.config/libreoffice/4/user/gallery/~PP189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file:///tmp/home/.config/libreoffice/4/user/gallery/~PP1848.WAV" TargetMode="External"/><Relationship Id="rId4" Type="http://schemas.microsoft.com/office/2007/relationships/media" Target="file:///tmp/home/.config/libreoffice/4/user/gallery/~PP18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file:///tmp/home/.config/libreoffice/4/user/gallery/~PP2316.WAV" TargetMode="External"/><Relationship Id="rId4" Type="http://schemas.microsoft.com/office/2007/relationships/media" Target="file:///tmp/home/.config/libreoffice/4/user/gallery/~PP231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file:///tmp/home/.config/libreoffice/4/user/gallery/~PP817.WAV" TargetMode="External"/><Relationship Id="rId4" Type="http://schemas.microsoft.com/office/2007/relationships/media" Target="file:///tmp/home/.config/libreoffice/4/user/gallery/~PP81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audio" Target="file:///tmp/home/.config/libreoffice/4/user/gallery/~PP2344.WAV" TargetMode="External"/><Relationship Id="rId4" Type="http://schemas.microsoft.com/office/2007/relationships/media" Target="file:///tmp/home/.config/libreoffice/4/user/gallery/~PP234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audio" Target="file:///tmp/home/.config/libreoffice/4/user/gallery/~PP2264.WAV" TargetMode="External"/><Relationship Id="rId4" Type="http://schemas.microsoft.com/office/2007/relationships/media" Target="file:///tmp/home/.config/libreoffice/4/user/gallery/~PP226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audio" Target="file:///tmp/home/.config/libreoffice/4/user/gallery/~PP2653.WAV" TargetMode="External"/><Relationship Id="rId4" Type="http://schemas.microsoft.com/office/2007/relationships/media" Target="file:///tmp/home/.config/libreoffice/4/user/gallery/~PP26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audio" Target="file:///tmp/home/.config/libreoffice/4/user/gallery/~PP2561.WAV" TargetMode="External"/><Relationship Id="rId4" Type="http://schemas.microsoft.com/office/2007/relationships/media" Target="file:///tmp/home/.config/libreoffice/4/user/gallery/~PP256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audio" Target="file:///tmp/home/.config/libreoffice/4/user/gallery/~PP2400.WAV" TargetMode="External"/><Relationship Id="rId4" Type="http://schemas.microsoft.com/office/2007/relationships/media" Target="file:///tmp/home/.config/libreoffice/4/user/gallery/~PP240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audio" Target="file:///tmp/home/.config/libreoffice/4/user/gallery/~PP2240.WAV" TargetMode="External"/><Relationship Id="rId4" Type="http://schemas.microsoft.com/office/2007/relationships/media" Target="file:///tmp/home/.config/libreoffice/4/user/gallery/~PP22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audio" Target="file:///tmp/home/.config/libreoffice/4/user/gallery/~PP2129.WAV" TargetMode="External"/><Relationship Id="rId4" Type="http://schemas.microsoft.com/office/2007/relationships/media" Target="file:///tmp/home/.config/libreoffice/4/user/gallery/~PP212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audio" Target="file:///tmp/home/.config/libreoffice/4/user/gallery/~PP1879.WAV" TargetMode="External"/><Relationship Id="rId4" Type="http://schemas.microsoft.com/office/2007/relationships/media" Target="file:///tmp/home/.config/libreoffice/4/user/gallery/~PP187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audio" Target="file:///tmp/home/.config/libreoffice/4/user/gallery/~PP1537.WAV" TargetMode="External"/><Relationship Id="rId4" Type="http://schemas.microsoft.com/office/2007/relationships/media" Target="file:///tmp/home/.config/libreoffice/4/user/gallery/~PP1537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audio" Target="file:///tmp/home/.config/libreoffice/4/user/gallery/~PP1340.WAV" TargetMode="External"/><Relationship Id="rId4" Type="http://schemas.microsoft.com/office/2007/relationships/media" Target="file:///tmp/home/.config/libreoffice/4/user/gallery/~PP13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~PP736.WAV" TargetMode="External"/><Relationship Id="rId4" Type="http://schemas.microsoft.com/office/2007/relationships/media" Target="file:///tmp/home/.config/libreoffice/4/user/gallery/~PP73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audio" Target="file:///tmp/home/.config/libreoffice/4/user/gallery/~PP1205.WAV" TargetMode="External"/><Relationship Id="rId4" Type="http://schemas.microsoft.com/office/2007/relationships/media" Target="file:///tmp/home/.config/libreoffice/4/user/gallery/~PP120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audio" Target="file:///tmp/home/.config/libreoffice/4/user/gallery/~PP694.WAV" TargetMode="External"/><Relationship Id="rId4" Type="http://schemas.microsoft.com/office/2007/relationships/media" Target="file:///tmp/home/.config/libreoffice/4/user/gallery/~PP69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604.WAV" TargetMode="External"/><Relationship Id="rId4" Type="http://schemas.microsoft.com/office/2007/relationships/media" Target="file:///tmp/home/.config/libreoffice/4/user/gallery/~PP60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~PP534.WAV" TargetMode="External"/><Relationship Id="rId4" Type="http://schemas.microsoft.com/office/2007/relationships/media" Target="file:///tmp/home/.config/libreoffice/4/user/gallery/~PP53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file:///tmp/home/.config/libreoffice/4/user/gallery/~PP608.WAV" TargetMode="External"/><Relationship Id="rId4" Type="http://schemas.microsoft.com/office/2007/relationships/media" Target="file:///tmp/home/.config/libreoffice/4/user/gallery/~PP60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file:///tmp/home/.config/libreoffice/4/user/gallery/~PP762.WAV" TargetMode="External"/><Relationship Id="rId4" Type="http://schemas.microsoft.com/office/2007/relationships/media" Target="file:///tmp/home/.config/libreoffice/4/user/gallery/~PP76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file:///tmp/home/.config/libreoffice/4/user/gallery/~PP1006.WAV" TargetMode="External"/><Relationship Id="rId4" Type="http://schemas.microsoft.com/office/2007/relationships/media" Target="file:///tmp/home/.config/libreoffice/4/user/gallery/~PP100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424320" y="2881440"/>
          <a:ext cx="22953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53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389400" y="2881440"/>
          <a:ext cx="23652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2881440"/>
                    <a:ext cx="2365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387600" y="2879640"/>
          <a:ext cx="23670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79640"/>
                    <a:ext cx="2367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359160" y="2881440"/>
          <a:ext cx="24224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9160" y="2881440"/>
                    <a:ext cx="24224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424320" y="2881440"/>
          <a:ext cx="22939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2881440"/>
                    <a:ext cx="22939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395520" y="2881440"/>
          <a:ext cx="23529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29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387600" y="2879640"/>
          <a:ext cx="236700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7600" y="2879640"/>
                    <a:ext cx="236700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3432240" y="2881440"/>
          <a:ext cx="227952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952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422520" y="2881440"/>
          <a:ext cx="23004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3004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3397320" y="2881440"/>
          <a:ext cx="2347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2881440"/>
                    <a:ext cx="2347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3386160" y="2881440"/>
          <a:ext cx="23702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2881440"/>
                    <a:ext cx="23702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408480" y="2881440"/>
          <a:ext cx="232884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881440"/>
                    <a:ext cx="232884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3432240" y="2881440"/>
          <a:ext cx="22780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2881440"/>
                    <a:ext cx="22780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3440160" y="2881440"/>
          <a:ext cx="226368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2881440"/>
                    <a:ext cx="226368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395520" y="2881440"/>
          <a:ext cx="2351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5520" y="2881440"/>
                    <a:ext cx="2351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3422520" y="2881440"/>
          <a:ext cx="2297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881440"/>
                    <a:ext cx="2297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414600" y="2881440"/>
          <a:ext cx="231480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4600" y="2881440"/>
                    <a:ext cx="23148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405240" y="2881440"/>
          <a:ext cx="23335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881440"/>
                    <a:ext cx="23335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0040" y="6562800"/>
            <a:ext cx="183960" cy="18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9:23:30Z</dcterms:created>
  <dc:creator>Hadlock</dc:creator>
  <dc:description/>
  <dc:language>en-US</dc:language>
  <cp:lastModifiedBy>Hadlock</cp:lastModifiedBy>
  <dcterms:modified xsi:type="dcterms:W3CDTF">2001-08-13T19:23:36Z</dcterms:modified>
  <cp:revision>1</cp:revision>
  <dc:subject/>
  <dc:title>PowerPoint Presentation</dc:title>
</cp:coreProperties>
</file>