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7F81-7A6D-4509-98B9-261DFB561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AACC-92D2-4BED-8E1B-85CD3C548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26AE-3AA0-49E2-B971-0D7DE7FA1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C436-58D3-4C9D-93C9-4829D4AFE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B851-0BC4-4D06-97D2-664604C2A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FAB5-EFAB-4F26-A959-4FA0BF1EF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CCDB-7874-44A2-B414-2D1E72878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AA3C-146D-4C19-990E-CAF69485F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7302-D215-4041-A52B-6B737A737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E52C-1CC7-48D9-A847-7335FFC6A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BA8D-D662-42DA-8DD4-DA911BA3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6E08-EC37-4D34-A252-AA0B264C6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67C23-5536-4CBC-8A90-DD8273374B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414600" y="2881440"/>
          <a:ext cx="231480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4600" y="2881440"/>
                    <a:ext cx="231480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3405240" y="2881440"/>
          <a:ext cx="233352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5240" y="2881440"/>
                    <a:ext cx="233352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3414600" y="2881440"/>
          <a:ext cx="231480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4600" y="2881440"/>
                    <a:ext cx="231480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3405240" y="2881440"/>
          <a:ext cx="233352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5240" y="2881440"/>
                    <a:ext cx="233352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3405240" y="2881440"/>
          <a:ext cx="233352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5240" y="2881440"/>
                    <a:ext cx="233352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3405240" y="2881440"/>
          <a:ext cx="233352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5240" y="2881440"/>
                    <a:ext cx="233352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3414600" y="2881440"/>
          <a:ext cx="231480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4600" y="2881440"/>
                    <a:ext cx="231480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3405240" y="2881440"/>
          <a:ext cx="233352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5240" y="2881440"/>
                    <a:ext cx="233352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3422520" y="2881440"/>
          <a:ext cx="230040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2520" y="2881440"/>
                    <a:ext cx="230040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3405240" y="2881440"/>
          <a:ext cx="233352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5240" y="2881440"/>
                    <a:ext cx="233352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3414600" y="2881440"/>
          <a:ext cx="231480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4600" y="2881440"/>
                    <a:ext cx="231480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386160" y="2881440"/>
          <a:ext cx="237024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86160" y="2881440"/>
                    <a:ext cx="237024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3405240" y="2881440"/>
          <a:ext cx="233352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5240" y="2881440"/>
                    <a:ext cx="233352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3405240" y="2881440"/>
          <a:ext cx="233352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5240" y="2881440"/>
                    <a:ext cx="233352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3405240" y="2881440"/>
          <a:ext cx="233352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5240" y="2881440"/>
                    <a:ext cx="233352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3414600" y="2881440"/>
          <a:ext cx="231480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4600" y="2881440"/>
                    <a:ext cx="231480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3395520" y="2881440"/>
          <a:ext cx="235116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5520" y="2881440"/>
                    <a:ext cx="235116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3408480" y="2881440"/>
          <a:ext cx="232884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8480" y="2881440"/>
                    <a:ext cx="232884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3387600" y="2881440"/>
          <a:ext cx="236700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87600" y="2881440"/>
                    <a:ext cx="236700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3440160" y="2881440"/>
          <a:ext cx="226368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40160" y="2881440"/>
                    <a:ext cx="226368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3397320" y="2881440"/>
          <a:ext cx="234792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7320" y="2881440"/>
                    <a:ext cx="234792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3414600" y="2881440"/>
          <a:ext cx="231480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4600" y="2881440"/>
                    <a:ext cx="231480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3414600" y="2881440"/>
          <a:ext cx="231480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4600" y="2881440"/>
                    <a:ext cx="231480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3408480" y="2881440"/>
          <a:ext cx="232884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8480" y="2881440"/>
                    <a:ext cx="232884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3397320" y="2881440"/>
          <a:ext cx="234792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7320" y="2881440"/>
                    <a:ext cx="234792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3405240" y="2881440"/>
          <a:ext cx="233352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5240" y="2881440"/>
                    <a:ext cx="233352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"/>
          <p:cNvGraphicFramePr/>
          <p:nvPr/>
        </p:nvGraphicFramePr>
        <p:xfrm>
          <a:off x="3397320" y="2881440"/>
          <a:ext cx="234792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7320" y="2881440"/>
                    <a:ext cx="234792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3397320" y="2881440"/>
          <a:ext cx="234792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7320" y="2881440"/>
                    <a:ext cx="234792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3422520" y="2881440"/>
          <a:ext cx="230040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2520" y="2881440"/>
                    <a:ext cx="230040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3422520" y="2881440"/>
          <a:ext cx="229716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2520" y="2881440"/>
                    <a:ext cx="229716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3422520" y="2881440"/>
          <a:ext cx="230040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2520" y="2881440"/>
                    <a:ext cx="230040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"/>
          <p:cNvGraphicFramePr/>
          <p:nvPr/>
        </p:nvGraphicFramePr>
        <p:xfrm>
          <a:off x="3414600" y="2881440"/>
          <a:ext cx="231480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4600" y="2881440"/>
                    <a:ext cx="231480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3414600" y="2881440"/>
          <a:ext cx="231480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4600" y="2881440"/>
                    <a:ext cx="231480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387600" y="2881440"/>
          <a:ext cx="236700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87600" y="2881440"/>
                    <a:ext cx="236700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"/>
          <p:cNvGraphicFramePr/>
          <p:nvPr/>
        </p:nvGraphicFramePr>
        <p:xfrm>
          <a:off x="3379680" y="2881440"/>
          <a:ext cx="2382840" cy="23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79680" y="2881440"/>
                    <a:ext cx="2382840" cy="23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3397320" y="2881440"/>
          <a:ext cx="234792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7320" y="2881440"/>
                    <a:ext cx="234792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3424320" y="2881440"/>
          <a:ext cx="229716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4320" y="2881440"/>
                    <a:ext cx="229716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"/>
          <p:cNvGraphicFramePr/>
          <p:nvPr/>
        </p:nvGraphicFramePr>
        <p:xfrm>
          <a:off x="3414600" y="2881440"/>
          <a:ext cx="231480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4600" y="2881440"/>
                    <a:ext cx="231480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"/>
          <p:cNvGraphicFramePr/>
          <p:nvPr/>
        </p:nvGraphicFramePr>
        <p:xfrm>
          <a:off x="3408480" y="2881440"/>
          <a:ext cx="232884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8480" y="2881440"/>
                    <a:ext cx="232884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"/>
          <p:cNvGraphicFramePr/>
          <p:nvPr/>
        </p:nvGraphicFramePr>
        <p:xfrm>
          <a:off x="3397320" y="2881440"/>
          <a:ext cx="234792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7320" y="2881440"/>
                    <a:ext cx="234792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3414600" y="2881440"/>
          <a:ext cx="231480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4600" y="2881440"/>
                    <a:ext cx="231480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3405240" y="2881440"/>
          <a:ext cx="233352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5240" y="2881440"/>
                    <a:ext cx="233352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3405240" y="2881440"/>
          <a:ext cx="233352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5240" y="2881440"/>
                    <a:ext cx="233352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3378240" y="2881440"/>
          <a:ext cx="238608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78240" y="2881440"/>
                    <a:ext cx="238608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3395520" y="2881440"/>
          <a:ext cx="235296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5520" y="2881440"/>
                    <a:ext cx="235296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3T19:27:29Z</dcterms:created>
  <dc:creator>Hadlock</dc:creator>
  <dc:description/>
  <dc:language>en-US</dc:language>
  <cp:lastModifiedBy>Hadlock</cp:lastModifiedBy>
  <dcterms:modified xsi:type="dcterms:W3CDTF">2001-08-13T19:35:09Z</dcterms:modified>
  <cp:revision>2</cp:revision>
  <dc:subject/>
  <dc:title>PowerPoint Presentation</dc:title>
</cp:coreProperties>
</file>