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D52-6448-4405-959F-4A78739C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14B-6B26-4C16-AE2D-BB4CC07E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7BB-7A1D-4545-9673-53A19D0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3E9-74D4-493A-9A9C-D7608320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DDA-DA6B-4884-AD11-D5FA54A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F0B-5D12-45F0-B959-53DB7AF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943-8578-4199-83D7-F3EC638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F15-E926-4FCC-BD5A-AAB0F0C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B65-64B1-4AC5-ACD1-8E99EFB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778-A0A4-437F-84E3-EC9A1B1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CFB-7963-4CD9-B8AB-9A45AB6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2DC-F409-4F8B-83DE-888F915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16E8-33A5-41F4-91D0-3B98E565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40160" y="2881440"/>
          <a:ext cx="2263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2881440"/>
                    <a:ext cx="22636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379680" y="2881440"/>
          <a:ext cx="23828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9680" y="2881440"/>
                    <a:ext cx="23828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4243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378240" y="2881440"/>
          <a:ext cx="2386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881440"/>
                    <a:ext cx="2386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7:29Z</dcterms:created>
  <dc:creator>Hadlock</dc:creator>
  <dc:description/>
  <dc:language>en-US</dc:language>
  <cp:lastModifiedBy>Hadlock</cp:lastModifiedBy>
  <dcterms:modified xsi:type="dcterms:W3CDTF">2001-08-13T19:35:09Z</dcterms:modified>
  <cp:revision>2</cp:revision>
  <dc:subject/>
  <dc:title>PowerPoint Presentation</dc:title>
</cp:coreProperties>
</file>